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4F85-A2FA-4CB1-B3AC-566FC62BD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88B5-6F3C-4AA5-A5EA-30597A346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BC6C-EC3F-445C-BCF4-C1CC9DD5B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BDD1-E48F-42E7-8DB4-5E676B79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60F8-E2A6-4A88-BC72-1C4CA0CA9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DB33-FA20-4040-88A2-BA9D9BF9E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6561-8104-43AF-B462-7A4D0986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04F7-838F-4601-AB18-D6FA2BB9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A817-01EF-420F-A4F3-60154732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A923-E98F-4515-8E31-FE794387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14D7-FDF6-42D8-A468-4E5E1C3B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6CD0-2AA0-4970-ADF8-3E5803E3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836B-6C22-4B7C-B0EA-E4F8ED96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5B04-2D58-405F-925B-96C258E2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700F-5621-40EC-B023-8181590C8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179280" y="1332000"/>
            <a:ext cx="2073240" cy="5526000"/>
          </a:xfrm>
          <a:prstGeom prst="rect">
            <a:avLst/>
          </a:prstGeom>
          <a:solidFill>
            <a:srgbClr val="80808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324000" y="1844640"/>
            <a:ext cx="1784160" cy="934920"/>
          </a:xfrm>
          <a:prstGeom prst="roundRect">
            <a:avLst>
              <a:gd name="adj" fmla="val 16667"/>
            </a:avLst>
          </a:prstGeom>
          <a:solidFill>
            <a:srgbClr val="6399a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動員全校師生清理校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317520" y="3562200"/>
            <a:ext cx="1784160" cy="935280"/>
          </a:xfrm>
          <a:prstGeom prst="roundRect">
            <a:avLst>
              <a:gd name="adj" fmla="val 16667"/>
            </a:avLst>
          </a:prstGeom>
          <a:solidFill>
            <a:srgbClr val="6399a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申請國軍支援清理校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324000" y="5157720"/>
            <a:ext cx="1784160" cy="935280"/>
          </a:xfrm>
          <a:prstGeom prst="roundRect">
            <a:avLst>
              <a:gd name="adj" fmla="val 16667"/>
            </a:avLst>
          </a:prstGeom>
          <a:solidFill>
            <a:srgbClr val="6399a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啟動開口契約清理校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268360" y="1628640"/>
            <a:ext cx="54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0ad12"/>
                </a:solidFill>
                <a:latin typeface="典匠中特圓"/>
                <a:ea typeface="典匠中特圓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2268360" y="3429000"/>
            <a:ext cx="59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0ad12"/>
                </a:solidFill>
                <a:latin typeface="典匠中特圓"/>
                <a:ea typeface="典匠中特圓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268360" y="5013360"/>
            <a:ext cx="735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0ad12"/>
                </a:solidFill>
                <a:latin typeface="典匠中特圓"/>
                <a:ea typeface="典匠中特圓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2916360" y="1125360"/>
            <a:ext cx="5832360" cy="165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颱風過後第一天上午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第</a:t>
            </a:r>
            <a:r>
              <a:rPr b="1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至</a:t>
            </a:r>
            <a:r>
              <a:rPr b="1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節課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，動員全校師生共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清理校園環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需要外援協助清運的垃圾，擇定校內適當的地點做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垃圾暫時集中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C.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花蓮市及吉安鄉解除警報三天內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清運樹木及環境垃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至清潔回收場不收運棄費，需學校人員押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1"/>
          <p:cNvSpPr/>
          <p:nvPr/>
        </p:nvSpPr>
        <p:spPr>
          <a:xfrm>
            <a:off x="2987640" y="2924280"/>
            <a:ext cx="5904000" cy="1728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請於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颱風過後上班日（含周休二日）</a:t>
            </a:r>
            <a:r>
              <a:rPr b="1" lang="zh-TW" sz="1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中午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12</a:t>
            </a:r>
            <a:r>
              <a:rPr b="1" lang="zh-TW" sz="1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時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前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填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「申請國軍支援救災需求表」，傳真至縣府民政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兵役行政科彙整後，轉報花蓮縣後備司令部派遣國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支援救災。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民政處兵役行政科 傳真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30576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電話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21894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32047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27171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4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5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2"/>
          <p:cNvSpPr/>
          <p:nvPr/>
        </p:nvSpPr>
        <p:spPr>
          <a:xfrm>
            <a:off x="2987640" y="4797360"/>
            <a:ext cx="5832360" cy="194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若有大型樹木需扶正或清運時，請於颱風過後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上班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1</a:t>
            </a:r>
            <a:r>
              <a:rPr b="1" lang="zh-TW" sz="1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天內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填寫學校搶修（險）通知單並傳真至教育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設施科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傳真：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8462782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；電話：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8462781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教育處彙整後通知開口合約廠商準備機具人員，儘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至各校辦理災害搶險搶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C.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針對災害後重大樹木倒塌折斷需清運及砍除，小型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枝，請國軍、清潔隊及學校師生義工處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3"/>
          <p:cNvSpPr/>
          <p:nvPr/>
        </p:nvSpPr>
        <p:spPr>
          <a:xfrm>
            <a:off x="324000" y="260280"/>
            <a:ext cx="1784160" cy="935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颱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豪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5"/>
          <p:cNvSpPr/>
          <p:nvPr/>
        </p:nvSpPr>
        <p:spPr>
          <a:xfrm>
            <a:off x="2843280" y="189000"/>
            <a:ext cx="590544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因應「颱風」及「豪雨」等天然災害肆虐校園環境後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復原作業流程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。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5.09.</a:t>
            </a:r>
            <a:r>
              <a:rPr b="1" lang="zh-TW" sz="1400" spc="-1" strike="noStrike">
                <a:solidFill>
                  <a:srgbClr val="000000"/>
                </a:solidFill>
                <a:latin typeface="Arial"/>
              </a:rPr>
              <a:t>修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2124000" y="765000"/>
            <a:ext cx="719280" cy="0"/>
          </a:xfrm>
          <a:prstGeom prst="line">
            <a:avLst/>
          </a:prstGeom>
          <a:ln cap="rnd" w="381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7"/>
          <p:cNvSpPr/>
          <p:nvPr/>
        </p:nvSpPr>
        <p:spPr>
          <a:xfrm>
            <a:off x="1116000" y="1197000"/>
            <a:ext cx="216000" cy="576360"/>
          </a:xfrm>
          <a:prstGeom prst="downArrow">
            <a:avLst>
              <a:gd name="adj1" fmla="val 50000"/>
              <a:gd name="adj2" fmla="val 66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8"/>
          <p:cNvSpPr/>
          <p:nvPr/>
        </p:nvSpPr>
        <p:spPr>
          <a:xfrm>
            <a:off x="1116000" y="2924280"/>
            <a:ext cx="216000" cy="576000"/>
          </a:xfrm>
          <a:prstGeom prst="downArrow">
            <a:avLst>
              <a:gd name="adj1" fmla="val 50000"/>
              <a:gd name="adj2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9"/>
          <p:cNvSpPr/>
          <p:nvPr/>
        </p:nvSpPr>
        <p:spPr>
          <a:xfrm>
            <a:off x="1116000" y="4508640"/>
            <a:ext cx="216000" cy="576000"/>
          </a:xfrm>
          <a:prstGeom prst="downArrow">
            <a:avLst>
              <a:gd name="adj1" fmla="val 50000"/>
              <a:gd name="adj2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07:12:03Z</dcterms:created>
  <dc:creator>hlc</dc:creator>
  <dc:description/>
  <dc:language>en-US</dc:language>
  <cp:lastModifiedBy>user</cp:lastModifiedBy>
  <dcterms:modified xsi:type="dcterms:W3CDTF">2016-09-26T02:48:02Z</dcterms:modified>
  <cp:revision>30</cp:revision>
  <dc:subject/>
  <dc:title>投影片 1</dc:title>
</cp:coreProperties>
</file>