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039-A433-423F-B3EA-57B68E50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B58-F440-460B-BFA4-80666FB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18D-781E-498C-B28F-F8AC8A97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24A-C32A-4667-8F81-4418B269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688-BFEC-4270-9481-1F294B9D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F45-673E-412C-94A1-EBB1AB42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D3D-E87E-4E79-9152-A4A737E9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E7F-F1EC-4B93-BC5E-700996F0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D01-039E-4057-B569-86A72E8D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BDA-92D8-4B9F-9E2D-FD1CA539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98D-F113-4D7D-BD85-E03AF61F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35A-C444-46CE-BE5B-1B3E266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646-AB73-4341-BC67-0BE1F2F6736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3:29Z</dcterms:created>
  <dc:creator>Valued Acer Customer</dc:creator>
  <dc:description/>
  <dc:language>en-US</dc:language>
  <cp:lastModifiedBy>22</cp:lastModifiedBy>
  <dcterms:modified xsi:type="dcterms:W3CDTF">2013-11-27T01:06:03Z</dcterms:modified>
  <cp:revision>1</cp:revision>
  <dc:subject/>
  <dc:title>投影片 1</dc:title>
</cp:coreProperties>
</file>