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289-3644-43AC-8E24-4A6AD4D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F8B-B711-4812-BD4C-909C2C14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116-2B4D-4966-8A91-3CF1093C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E16-8C41-43F3-8CFF-DF5ACBDE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42E-CCD8-4B39-B385-378E6E1A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784-B508-4D10-87CC-56A8D50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01A-2C79-4F4F-9C70-5B90F7CC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BB1-8DA2-40ED-B515-0E4A1C3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77C-DB4D-454C-A057-1EF7B37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DF1-747C-41C5-8E50-D0FE2CC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F32-F8C6-4739-990E-E4BCBB4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1C4-753F-4197-A026-635E8F8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A949-1C1C-4EA8-A65B-4C266E8BDF6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花博總價決標</a:t>
            </a:r>
            <a:r>
              <a:rPr b="0" lang="en-US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藍委做球 審計部不願背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黨立委賴士葆日前出任體檢花博顧問團成員，引發爭議，甚至被譏為背書團。他昨天要求林慶隆說明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「總價決標」，相關規定允不允許個別採購項目可以報價較高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審計長林慶隆回應表示，在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中並無「總價決標」名詞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52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規定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，訂有底價的採購，應在底價內以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最低標報價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為原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賴追問，若議會已通過的預算，事後又被質疑太高怎麼辦？林則說，要從底價及預算編列來看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46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規定，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必須逐項考量成本、市場行情、以往決標資料，包括工程會決標資料庫，逐項照市價編列，最後成為施工預算，再由機關首長核定底價，依採購法精神，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每項單價都應符合市場行情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林慶隆說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政府機關訂底價時要照市場行情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…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偏差不能太大；但廠商每項報價高低，與市府每項底價高低不一定一樣，最後決標時，廠商合計總報價，</a:t>
            </a: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雖然法律上沒有「總價決標」，仍可累積一個總報價在底標內來決標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但簽約時</a:t>
            </a:r>
            <a:r>
              <a:rPr b="0" lang="zh-TW" sz="23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仍應看廠商報價合不合理</a:t>
            </a:r>
            <a:r>
              <a:rPr b="0" lang="zh-TW" sz="18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010/10/14/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由時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6:20:01Z</dcterms:created>
  <dc:creator>Valued Acer Customer</dc:creator>
  <dc:description/>
  <dc:language>en-US</dc:language>
  <cp:lastModifiedBy>22</cp:lastModifiedBy>
  <dcterms:modified xsi:type="dcterms:W3CDTF">2013-11-27T01:07:08Z</dcterms:modified>
  <cp:revision>1</cp:revision>
  <dc:subject/>
  <dc:title>花博總價決標/藍委做球 審計部不願背書</dc:title>
</cp:coreProperties>
</file>