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62D5-6AD7-423A-934E-3ED02A57C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6136-AB4B-4786-AC7E-DEDFC307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9398-0C29-4F44-8C63-4F3EF0C0A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ABD9-1F7F-4CA2-9D35-4A027A545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DC49-4962-4E96-B57C-724CCFA6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8A78-5FCC-4858-BE77-FF65D9A0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8C9E-48A4-4A91-9930-97315C8C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B9F9-F353-42AC-99D5-0B226224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71D4-857E-4149-8158-BA404381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D991-0D04-4F8B-9C7B-84D96DA6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FEB5-626B-46A3-B963-693D63BC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86F8-9509-4D33-82BF-8A42BEA8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336E-06FC-482B-91C2-1AA8CE54E9F5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38200" y="399960"/>
            <a:ext cx="80676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03:35:54Z</dcterms:created>
  <dc:creator>Valued Acer Customer</dc:creator>
  <dc:description/>
  <dc:language>en-US</dc:language>
  <cp:lastModifiedBy>22</cp:lastModifiedBy>
  <dcterms:modified xsi:type="dcterms:W3CDTF">2013-11-27T01:06:44Z</dcterms:modified>
  <cp:revision>1</cp:revision>
  <dc:subject/>
  <dc:title>投影片 1</dc:title>
</cp:coreProperties>
</file>