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F0C-6274-48C4-A66F-30618EA8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127-5419-450D-BD19-9BF1B79C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246-BD66-41D4-A32A-DBAC605C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B24-48D5-4EC6-A831-4779758E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13B-DEE6-487F-9F93-31C0D23F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67B-7FFC-4F6D-BE12-CF99AC7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F34-43F0-4610-AF11-73E8DE39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F19-9E97-4497-8095-A66FCD22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F1C-90F6-47EF-B173-CDB40EF1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945-D953-4B52-98C1-DF209F1D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F69-2459-41ED-B315-EF97CA43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49C-1CF9-4B32-9192-E1210454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EC8A-72E7-4E65-9964-C5B3BC6C66B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260280"/>
            <a:ext cx="816264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16Z</dcterms:created>
  <dc:creator>Valued Acer Customer</dc:creator>
  <dc:description/>
  <dc:language>en-US</dc:language>
  <cp:lastModifiedBy>22</cp:lastModifiedBy>
  <dcterms:modified xsi:type="dcterms:W3CDTF">2013-11-27T01:06:29Z</dcterms:modified>
  <cp:revision>1</cp:revision>
  <dc:subject/>
  <dc:title>投影片 1</dc:title>
</cp:coreProperties>
</file>