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1292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87120" y="766800"/>
            <a:ext cx="51116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1292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B50D-D260-4C45-B091-5C5C3B4CE5D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37B-9314-4E07-8A87-9ADAF15F9C2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7B7-BF45-4D27-8E53-FA8D0A22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1137-3A4F-418D-9D3A-7E5AE1F3F69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C59-FA19-4613-BAB6-0A722B643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CCF2-C5A4-4637-991A-7FD15851AD6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EF04-E5FC-4E25-A99B-613B16E00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4A8A-2C52-4267-804F-21FC10653A2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8F2B-37BF-4B69-9298-989C526B2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53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55C2-ADE8-41C9-A50C-959103324F7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388D-7E7F-44DF-B8D2-AF78639ED23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59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FB7-F106-4FC4-9CB2-F59DD7585CB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4BB9-56E2-4E32-AC28-4469841E4EB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65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E533-7C3D-4CBA-A6B3-141EDC12DCA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6E6-838E-445F-B14B-1F930DFD837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680B-082D-48A6-BE93-6B00B72C109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1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A2A7-BD22-4D93-BAAF-F1897C864CF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4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7109-6874-41F9-A4AB-29D6D569522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7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36BC-B3A9-46EE-924B-28209AAAFED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0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C63A-E9B9-4822-AFB4-6B478C7998A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3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2CE9-6F60-45E3-BDBC-7EAD998C8B4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6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429A-4805-49E8-AE39-7B2BAC2E063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9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B60E-7E2B-4A25-BBA3-783D5A2AAA0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92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6FAE-B1A8-4EDF-A382-F2D825121EB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95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6DD6-661D-403E-8AD6-38884531A92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22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BE14-16D3-4638-BCB2-E90AC60068F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98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BEA3-AEA9-4D23-B45E-9A67FCB62FF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01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6167-E040-432F-BE6E-2A3BA7EAC8B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04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B0EE-4659-4EC0-97D7-0C2902FF4B2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07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25C0-E385-431E-B3D1-212C55F1A3D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25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CB7D-5DCA-44E4-8399-C2523A83CF8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28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9449-08F8-4C47-AA70-9CD9DC487B9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1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BD2-2A75-47BF-B705-C2057B97AFA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8B17-496A-4D22-AAEB-CC8BE7CCE20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3E60-5B5C-4E1C-AE2D-B9D7CF1EB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C075-71D5-4119-B7A3-9DBA882ED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2B55-5AA9-4ABB-8B3D-C9EAB9753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6BBC-7656-48E7-8395-2A3D0639D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5940-B1CA-47E7-B73B-AEBD996E3C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E1E8-E93C-465B-876D-8E8B0BEF7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8057-621E-4EBA-9895-38D8FF5FE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C7A6-0EFA-451F-92A3-3464889B3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4387-2C44-4B5E-9F0D-AE7A634107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7AAE-6F60-466B-871C-A32609A6B0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6192-821D-4CA7-9C7C-ADA5C1E54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9F1B-7E02-42DE-B5C7-34DDD4572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0EF3-0257-4BF5-B5F7-7AC67DBEC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ED4F-2766-4440-8D1F-3A143B70FE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D51B-8E48-4C90-BD2A-71CF9B202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9607-00AD-4028-ACBC-EF32B8552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588F-2AD5-4AC3-BB64-194CB041A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86A5-E332-42BE-82E8-022F81777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E71B-2E97-4375-AF71-73948D322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060B-38B6-4A8D-982A-5BE9A8709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DC27-F93F-4034-8239-D24181934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E9F5-7E1B-48F4-918B-2049EA975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83CE-FD58-44B0-BA9A-7659382FC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3405-70AD-43F4-B1D0-399895778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8"/>
          <p:cNvSpPr/>
          <p:nvPr/>
        </p:nvSpPr>
        <p:spPr>
          <a:xfrm>
            <a:off x="0" y="723960"/>
            <a:ext cx="9144000" cy="1238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3"/>
          <p:cNvSpPr/>
          <p:nvPr/>
        </p:nvSpPr>
        <p:spPr>
          <a:xfrm>
            <a:off x="0" y="0"/>
            <a:ext cx="6867360" cy="72396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26"/>
          <p:cNvSpPr/>
          <p:nvPr/>
        </p:nvSpPr>
        <p:spPr>
          <a:xfrm>
            <a:off x="-12600" y="343080"/>
            <a:ext cx="6032520" cy="679320"/>
          </a:xfrm>
          <a:custGeom>
            <a:avLst/>
            <a:gdLst>
              <a:gd name="textAreaLeft" fmla="*/ 0 w 6032520"/>
              <a:gd name="textAreaRight" fmla="*/ 6032880 w 603252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73E-CD8B-4116-8146-58318A37F0A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4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9" descr="8"/>
          <p:cNvPicPr/>
          <p:nvPr/>
        </p:nvPicPr>
        <p:blipFill>
          <a:blip r:embed="rId2"/>
          <a:stretch/>
        </p:blipFill>
        <p:spPr>
          <a:xfrm>
            <a:off x="7640640" y="782640"/>
            <a:ext cx="150336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80"/>
          <p:cNvSpPr/>
          <p:nvPr/>
        </p:nvSpPr>
        <p:spPr>
          <a:xfrm>
            <a:off x="6873840" y="0"/>
            <a:ext cx="776160" cy="72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81"/>
          <p:cNvSpPr/>
          <p:nvPr/>
        </p:nvSpPr>
        <p:spPr>
          <a:xfrm>
            <a:off x="7647120" y="1440"/>
            <a:ext cx="738000" cy="723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82"/>
          <p:cNvSpPr/>
          <p:nvPr/>
        </p:nvSpPr>
        <p:spPr>
          <a:xfrm>
            <a:off x="8388360" y="0"/>
            <a:ext cx="755640" cy="722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3"/>
          <p:cNvSpPr/>
          <p:nvPr/>
        </p:nvSpPr>
        <p:spPr>
          <a:xfrm>
            <a:off x="7643880" y="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84"/>
          <p:cNvSpPr/>
          <p:nvPr/>
        </p:nvSpPr>
        <p:spPr>
          <a:xfrm>
            <a:off x="8386920" y="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94" descr="06"/>
          <p:cNvPicPr/>
          <p:nvPr/>
        </p:nvPicPr>
        <p:blipFill>
          <a:blip r:embed="rId2"/>
          <a:stretch/>
        </p:blipFill>
        <p:spPr>
          <a:xfrm>
            <a:off x="0" y="2516040"/>
            <a:ext cx="9144000" cy="2970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88"/>
          <p:cNvSpPr/>
          <p:nvPr/>
        </p:nvSpPr>
        <p:spPr>
          <a:xfrm>
            <a:off x="0" y="2797200"/>
            <a:ext cx="9144000" cy="275436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848720" y="5943600"/>
            <a:ext cx="106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91"/>
          <p:cNvSpPr/>
          <p:nvPr/>
        </p:nvSpPr>
        <p:spPr>
          <a:xfrm>
            <a:off x="0" y="0"/>
            <a:ext cx="3048120" cy="280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92"/>
          <p:cNvSpPr/>
          <p:nvPr/>
        </p:nvSpPr>
        <p:spPr>
          <a:xfrm>
            <a:off x="3048120" y="0"/>
            <a:ext cx="3124080" cy="2800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3"/>
          <p:cNvSpPr/>
          <p:nvPr/>
        </p:nvSpPr>
        <p:spPr>
          <a:xfrm>
            <a:off x="6172200" y="0"/>
            <a:ext cx="2971800" cy="2800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4723920" y="65527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86CF-AC15-4BD0-B8C4-D7B51DAF8CE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3" descr="8"/>
          <p:cNvPicPr/>
          <p:nvPr/>
        </p:nvPicPr>
        <p:blipFill>
          <a:blip r:embed="rId1"/>
          <a:stretch/>
        </p:blipFill>
        <p:spPr>
          <a:xfrm>
            <a:off x="108000" y="4751280"/>
            <a:ext cx="5751360" cy="209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logo2"/>
          <p:cNvPicPr/>
          <p:nvPr/>
        </p:nvPicPr>
        <p:blipFill>
          <a:blip r:embed="rId2"/>
          <a:stretch/>
        </p:blipFill>
        <p:spPr>
          <a:xfrm>
            <a:off x="8273880" y="5989680"/>
            <a:ext cx="870120" cy="868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892080" y="2349360"/>
            <a:ext cx="79250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花蓮縣教師專業發展評鑑</a:t>
            </a:r>
            <a:br>
              <a:rPr sz="5400"/>
            </a:b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申辦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東華附小 連安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102.0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字方塊 4"/>
          <p:cNvSpPr/>
          <p:nvPr/>
        </p:nvSpPr>
        <p:spPr>
          <a:xfrm>
            <a:off x="5508720" y="573264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資料來源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修改自教師專業發展評鑑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教專計畫辦理計畫與申請流程圖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rcRect l="24060" t="21081" r="12092" b="5367"/>
          <a:stretch/>
        </p:blipFill>
        <p:spPr>
          <a:xfrm>
            <a:off x="395280" y="870120"/>
            <a:ext cx="831708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023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期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4360" y="4221000"/>
            <a:ext cx="309708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學校線上填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申辦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9640" y="3068640"/>
            <a:ext cx="3168720" cy="503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參與申辦說明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2112840" y="5516640"/>
            <a:ext cx="648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205092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205092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539640" y="1916280"/>
            <a:ext cx="2986200" cy="576000"/>
          </a:xfrm>
          <a:prstGeom prst="hexagon">
            <a:avLst>
              <a:gd name="adj" fmla="val 115616"/>
              <a:gd name="vf" fmla="val 11547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公布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1638360" y="602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（接下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5219640" y="907920"/>
            <a:ext cx="1871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1042920" y="907920"/>
            <a:ext cx="2160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4284720" y="1771560"/>
            <a:ext cx="439092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10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正式公告當年度申辦表格及規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1"/>
          <p:cNvSpPr/>
          <p:nvPr/>
        </p:nvSpPr>
        <p:spPr>
          <a:xfrm>
            <a:off x="4284720" y="2862360"/>
            <a:ext cx="453528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縣市政府辦理申辦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1"/>
          <p:cNvSpPr/>
          <p:nvPr/>
        </p:nvSpPr>
        <p:spPr>
          <a:xfrm>
            <a:off x="4284720" y="4005360"/>
            <a:ext cx="4537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學校於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19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日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-3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22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完成校務會議</a:t>
            </a:r>
            <a:r>
              <a:rPr b="0" lang="en-US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課發會</a:t>
            </a:r>
            <a:r>
              <a:rPr b="0" lang="en-US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提案或報告案後，並進行線上申請作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4356000" y="5445000"/>
            <a:ext cx="1224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校務會議</a:t>
            </a:r>
            <a:r>
              <a:rPr b="0" lang="en-US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課發會</a:t>
            </a:r>
            <a:r>
              <a:rPr b="0" lang="en-US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提案通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向右箭號 17"/>
          <p:cNvSpPr/>
          <p:nvPr/>
        </p:nvSpPr>
        <p:spPr>
          <a:xfrm>
            <a:off x="5651640" y="5732640"/>
            <a:ext cx="21564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40360" y="5445000"/>
            <a:ext cx="1224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成立推動小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7524720" y="5445000"/>
            <a:ext cx="1224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推動小組審查計畫通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向右箭號 20"/>
          <p:cNvSpPr/>
          <p:nvPr/>
        </p:nvSpPr>
        <p:spPr>
          <a:xfrm>
            <a:off x="7236000" y="5732640"/>
            <a:ext cx="21564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8"/>
          <p:cNvSpPr/>
          <p:nvPr/>
        </p:nvSpPr>
        <p:spPr>
          <a:xfrm>
            <a:off x="1619280" y="5834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（接下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5292720" y="981000"/>
            <a:ext cx="1871640" cy="40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68360" y="2000160"/>
            <a:ext cx="3166920" cy="532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學校提送申辦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1171440" y="4849920"/>
            <a:ext cx="163836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縣市初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1990800" y="53928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2009880" y="26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826920" y="3429000"/>
            <a:ext cx="2448000" cy="50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學校行政審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200988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1042920" y="90792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4500720" y="1762200"/>
            <a:ext cx="3943080" cy="11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校於</a:t>
            </a:r>
            <a:r>
              <a:rPr b="1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前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列印線上填報之申請表單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浮水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函送縣市政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5"/>
          <p:cNvSpPr/>
          <p:nvPr/>
        </p:nvSpPr>
        <p:spPr>
          <a:xfrm>
            <a:off x="4491000" y="3070080"/>
            <a:ext cx="394344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縣市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-14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行縣市行政初審，依據行政初審表檢核各校文件，並上網填報審核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4491000" y="4724280"/>
            <a:ext cx="3943440" cy="8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8-19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召開委員會進行正式審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214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及審查期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8"/>
          <p:cNvSpPr/>
          <p:nvPr/>
        </p:nvSpPr>
        <p:spPr>
          <a:xfrm>
            <a:off x="1581120" y="5637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（接下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5292720" y="981000"/>
            <a:ext cx="1871640" cy="40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468360" y="2000160"/>
            <a:ext cx="3166920" cy="532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縣市提送申辦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611280" y="4627440"/>
            <a:ext cx="31687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行政審查結果公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1969920" y="51116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2009880" y="26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971640" y="3429000"/>
            <a:ext cx="2448000" cy="50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200988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1042920" y="90792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4500720" y="1846440"/>
            <a:ext cx="394308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縣市於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前依教育部規定將申辦文件裝訂後，送達指定地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491000" y="3179880"/>
            <a:ext cx="3943440" cy="12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3-17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針對縣市提送之申辦文件，進行資料檢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8"/>
          <p:cNvSpPr/>
          <p:nvPr/>
        </p:nvSpPr>
        <p:spPr>
          <a:xfrm>
            <a:off x="4500720" y="4522680"/>
            <a:ext cx="3943080" cy="11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1933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7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</a:t>
            </a:r>
            <a:r>
              <a:rPr b="0" lang="zh-TW" sz="2400" spc="-1" strike="noStrike">
                <a:solidFill>
                  <a:srgbClr val="001933"/>
                </a:solidFill>
                <a:latin typeface="標楷體"/>
                <a:ea typeface="標楷體"/>
              </a:rPr>
              <a:t>電子郵件通知縣市政府須補正資料，並副知需補件之學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214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及審查期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3"/>
          <p:cNvSpPr/>
          <p:nvPr/>
        </p:nvSpPr>
        <p:spPr>
          <a:xfrm>
            <a:off x="768240" y="2276640"/>
            <a:ext cx="2710080" cy="57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縣市補提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10168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5435640" y="979560"/>
            <a:ext cx="1871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187280" y="907920"/>
            <a:ext cx="1872000" cy="601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643280" y="2060640"/>
            <a:ext cx="3961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29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前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將修正資料送達指定地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4643280" y="3551400"/>
            <a:ext cx="3961080" cy="9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6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-5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行複審，縣市派員出席報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539640" y="3716280"/>
            <a:ext cx="331164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教育部複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8"/>
          <p:cNvSpPr/>
          <p:nvPr/>
        </p:nvSpPr>
        <p:spPr>
          <a:xfrm>
            <a:off x="2087640" y="429084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14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期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6" descr="logo2"/>
          <p:cNvPicPr/>
          <p:nvPr/>
        </p:nvPicPr>
        <p:blipFill>
          <a:blip r:embed="rId1"/>
          <a:stretch/>
        </p:blipFill>
        <p:spPr>
          <a:xfrm>
            <a:off x="8244000" y="606744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6"/>
          <p:cNvSpPr/>
          <p:nvPr/>
        </p:nvSpPr>
        <p:spPr>
          <a:xfrm>
            <a:off x="539640" y="5118120"/>
            <a:ext cx="331164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公告審查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4643280" y="5003640"/>
            <a:ext cx="4023000" cy="8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6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28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布審查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623880" y="3141360"/>
            <a:ext cx="6035760" cy="3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395280" y="2976480"/>
            <a:ext cx="228600" cy="336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84360" y="234936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標楷體"/>
              </a:rPr>
              <a:t>102</a:t>
            </a: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注意與配合事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3" descr="logo2"/>
          <p:cNvPicPr/>
          <p:nvPr/>
        </p:nvPicPr>
        <p:blipFill>
          <a:blip r:embed="rId2"/>
          <a:stretch/>
        </p:blipFill>
        <p:spPr>
          <a:xfrm>
            <a:off x="838836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50920" y="3284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專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700360" y="1082520"/>
            <a:ext cx="5951520" cy="52754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教專計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2700360" y="2201760"/>
            <a:ext cx="57769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評鑑方式</a:t>
            </a:r>
            <a:r>
              <a:rPr b="1" lang="en-US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原規定：自由選用教學觀察、教學檔案、晤談教師、蒐集學生或家長反應等途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修正為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教學觀察為主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適時輔予教學檔案、晤談教師及蒐集學生或家長教學反應等多元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700360" y="1082520"/>
            <a:ext cx="5951520" cy="52754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2700360" y="2201760"/>
            <a:ext cx="577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表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-1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檢附資料欄位 之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0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學年度教專典範學校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影本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僅限教育部核定之典範學校填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輔導費之申請：逐年期組初次申請學校申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3-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次；其餘學校申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1-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次，連續參加滿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之學校申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0-3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700360" y="1082520"/>
            <a:ext cx="5951520" cy="52754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2692440" y="2201760"/>
            <a:ext cx="57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輔導夥伴之住宿費限離島地區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澎湖縣、金門縣、連江縣、屏東縣琉球鄉、台東縣蘭嶼鄉、台東縣綠島鄉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學校申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輔導夥伴之交通費應核實估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2700360" y="1082520"/>
            <a:ext cx="5951520" cy="47498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700360" y="2201760"/>
            <a:ext cx="57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縣市申辦行政研習時，學校不能申請行政研習交通費、住宿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教學輔導教師減授時數鐘點費之申請，縣市所轄之國中、國小部分，由縣市統一申請；國立小學於線上直接申請；高中職將以另案方式辦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綱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9"/>
          <p:cNvGrpSpPr/>
          <p:nvPr/>
        </p:nvGrpSpPr>
        <p:grpSpPr>
          <a:xfrm>
            <a:off x="395280" y="2637000"/>
            <a:ext cx="6624720" cy="892080"/>
            <a:chOff x="395280" y="2637000"/>
            <a:chExt cx="6624720" cy="892080"/>
          </a:xfrm>
        </p:grpSpPr>
        <p:sp>
          <p:nvSpPr>
            <p:cNvPr id="108" name="Line 71"/>
            <p:cNvSpPr/>
            <p:nvPr/>
          </p:nvSpPr>
          <p:spPr>
            <a:xfrm flipV="1">
              <a:off x="633240" y="3357720"/>
              <a:ext cx="6386760" cy="1584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2"/>
            <p:cNvSpPr/>
            <p:nvPr/>
          </p:nvSpPr>
          <p:spPr>
            <a:xfrm>
              <a:off x="395280" y="3218040"/>
              <a:ext cx="237960" cy="31104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3"/>
            <p:cNvSpPr/>
            <p:nvPr/>
          </p:nvSpPr>
          <p:spPr>
            <a:xfrm>
              <a:off x="755640" y="2637000"/>
              <a:ext cx="612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102</a:t>
              </a: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年申辦期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00"/>
          <p:cNvGrpSpPr/>
          <p:nvPr/>
        </p:nvGrpSpPr>
        <p:grpSpPr>
          <a:xfrm>
            <a:off x="395280" y="3645000"/>
            <a:ext cx="3313080" cy="965160"/>
            <a:chOff x="395280" y="3645000"/>
            <a:chExt cx="3313080" cy="965160"/>
          </a:xfrm>
        </p:grpSpPr>
        <p:sp>
          <p:nvSpPr>
            <p:cNvPr id="112" name="Line 75"/>
            <p:cNvSpPr/>
            <p:nvPr/>
          </p:nvSpPr>
          <p:spPr>
            <a:xfrm flipV="1">
              <a:off x="628560" y="4437000"/>
              <a:ext cx="3079800" cy="64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6"/>
            <p:cNvSpPr/>
            <p:nvPr/>
          </p:nvSpPr>
          <p:spPr>
            <a:xfrm>
              <a:off x="395280" y="4276800"/>
              <a:ext cx="233280" cy="33336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7"/>
            <p:cNvSpPr/>
            <p:nvPr/>
          </p:nvSpPr>
          <p:spPr>
            <a:xfrm>
              <a:off x="1340640" y="36450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注意與配合事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01"/>
          <p:cNvGrpSpPr/>
          <p:nvPr/>
        </p:nvGrpSpPr>
        <p:grpSpPr>
          <a:xfrm>
            <a:off x="395280" y="4724280"/>
            <a:ext cx="4321080" cy="827280"/>
            <a:chOff x="395280" y="4724280"/>
            <a:chExt cx="4321080" cy="827280"/>
          </a:xfrm>
        </p:grpSpPr>
        <p:sp>
          <p:nvSpPr>
            <p:cNvPr id="116" name="Line 79"/>
            <p:cNvSpPr/>
            <p:nvPr/>
          </p:nvSpPr>
          <p:spPr>
            <a:xfrm flipV="1">
              <a:off x="623880" y="5373720"/>
              <a:ext cx="4092480" cy="237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0"/>
            <p:cNvSpPr/>
            <p:nvPr/>
          </p:nvSpPr>
          <p:spPr>
            <a:xfrm>
              <a:off x="395280" y="5241960"/>
              <a:ext cx="228600" cy="309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1"/>
            <p:cNvSpPr/>
            <p:nvPr/>
          </p:nvSpPr>
          <p:spPr>
            <a:xfrm>
              <a:off x="1223640" y="4724280"/>
              <a:ext cx="23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結語</a:t>
              </a:r>
              <a:r>
                <a:rPr b="1" lang="en-US" sz="32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~</a:t>
              </a:r>
              <a:r>
                <a:rPr b="1" lang="zh-TW" sz="32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依期程進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8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7" descr="logo2"/>
          <p:cNvPicPr/>
          <p:nvPr/>
        </p:nvPicPr>
        <p:blipFill>
          <a:blip r:embed="rId2"/>
          <a:stretch/>
        </p:blipFill>
        <p:spPr>
          <a:xfrm>
            <a:off x="8342280" y="616572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5"/>
          <p:cNvSpPr/>
          <p:nvPr/>
        </p:nvSpPr>
        <p:spPr>
          <a:xfrm>
            <a:off x="1460520" y="1700280"/>
            <a:ext cx="3624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98"/>
          <p:cNvGrpSpPr/>
          <p:nvPr/>
        </p:nvGrpSpPr>
        <p:grpSpPr>
          <a:xfrm>
            <a:off x="395280" y="1700280"/>
            <a:ext cx="3456000" cy="850680"/>
            <a:chOff x="395280" y="1700280"/>
            <a:chExt cx="3456000" cy="850680"/>
          </a:xfrm>
        </p:grpSpPr>
        <p:sp>
          <p:nvSpPr>
            <p:cNvPr id="123" name="Line 93"/>
            <p:cNvSpPr/>
            <p:nvPr/>
          </p:nvSpPr>
          <p:spPr>
            <a:xfrm>
              <a:off x="701640" y="2397240"/>
              <a:ext cx="3149640" cy="237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4"/>
            <p:cNvSpPr/>
            <p:nvPr/>
          </p:nvSpPr>
          <p:spPr>
            <a:xfrm>
              <a:off x="395280" y="224460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923760" y="17002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前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2700360" y="1082520"/>
            <a:ext cx="5951520" cy="52992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2700360" y="2201760"/>
            <a:ext cx="595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原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98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學年度核定之核心學校已完成階段性任務，自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度起，由各直轄市、縣（市）擇一所能具體協助推動教師專業發展評鑑之學校，擔任核心學校；核心學校須為已申請多年期學校或於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申請多年期之學校，原經費概算表中協辦學校經費改為核心學校經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組成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700360" y="1081080"/>
            <a:ext cx="5803920" cy="486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2987640" y="2308320"/>
            <a:ext cx="54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下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3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至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下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6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25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至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8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上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9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上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組成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2700360" y="1081080"/>
            <a:ext cx="5803920" cy="32115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2987640" y="2308320"/>
            <a:ext cx="54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每一社群需有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75%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上成員係參與教師專業發展評鑑計畫之教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每位教師僅能參與一項社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撰寫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2700360" y="1081080"/>
            <a:ext cx="5803920" cy="45086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內容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2987640" y="2308320"/>
            <a:ext cx="54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社群內容應與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教師教學及學生學習直接相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每一項社群應有一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具體的主體，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並能於實施後有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具體的產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社群活動次數不得少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12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次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並於當年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6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月底前執行完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撰寫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2700360" y="1081080"/>
            <a:ext cx="5803920" cy="50119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內容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2987640" y="2308320"/>
            <a:ext cx="544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社群之討論議題，應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聚焦於評鑑歷程中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所收集到客觀教學資料之理性討論，並安排固定的對話期程，以達成專業學習社群之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講師交通費應核實估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撰寫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2700360" y="1081080"/>
            <a:ext cx="5803920" cy="51973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內容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2700360" y="230832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引言人須為外聘人員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且全程參與討論，方能領取引言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考量社群運作時，需邀請有經驗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專家全程參與討論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因此由學校編列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引言費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支應；講師費則用於支付實際辦理專題講座之用，因二者運作方是不同，因此同一場次社群活動，僅能支付講座鐘點費或引言費其中一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08080" y="3330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2700360" y="1081080"/>
            <a:ext cx="5803920" cy="51973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2987640" y="2308320"/>
            <a:ext cx="54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10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日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4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日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開放學校於教師專業發展評鑑網上直接填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教師專業社群計畫申請併本計畫一同於教專網進行線上申請，申請學校限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1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及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參加本計畫之學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除逐年期組初次申請學校外，其餘學校應完成規準上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8"/>
          <p:cNvSpPr/>
          <p:nvPr/>
        </p:nvSpPr>
        <p:spPr>
          <a:xfrm>
            <a:off x="2987640" y="1521000"/>
            <a:ext cx="619200" cy="401400"/>
          </a:xfrm>
          <a:prstGeom prst="rightArrow">
            <a:avLst>
              <a:gd name="adj1" fmla="val 50000"/>
              <a:gd name="adj2" fmla="val 584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08080" y="3330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700360" y="1081080"/>
            <a:ext cx="5803920" cy="494028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2987640" y="2308320"/>
            <a:ext cx="54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Arial"/>
                <a:ea typeface="標楷體"/>
              </a:rPr>
              <a:t>初次申辦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逐年期及多年期組學校，</a:t>
            </a:r>
            <a:r>
              <a:rPr b="1" lang="zh-TW" sz="2800" spc="-1" strike="noStrike">
                <a:solidFill>
                  <a:srgbClr val="c00000"/>
                </a:solidFill>
                <a:latin typeface="Arial"/>
                <a:ea typeface="標楷體"/>
              </a:rPr>
              <a:t>將計畫上傳網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8"/>
          <p:cNvSpPr/>
          <p:nvPr/>
        </p:nvSpPr>
        <p:spPr>
          <a:xfrm>
            <a:off x="2987640" y="1521000"/>
            <a:ext cx="619200" cy="401400"/>
          </a:xfrm>
          <a:prstGeom prst="rightArrow">
            <a:avLst>
              <a:gd name="adj1" fmla="val 50000"/>
              <a:gd name="adj2" fmla="val 584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179280" y="1413000"/>
            <a:ext cx="24480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50920" y="270828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學校申辦資料提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2700360" y="1082520"/>
            <a:ext cx="5951520" cy="558648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3557520" y="14018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資料提送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2700360" y="2201760"/>
            <a:ext cx="57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所送紙本須是教專網線上填報後列印之紙本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有浮水印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否則視同無效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須經評鑑推動小組審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提送份數，依各縣市政府規定辦理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179280" y="1413000"/>
            <a:ext cx="24480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50920" y="270828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學校申辦資料提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2700360" y="1082520"/>
            <a:ext cx="5951520" cy="558648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557520" y="14018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資料提送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2700360" y="2201760"/>
            <a:ext cx="577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評鑑人員進階研習與教學輔導教師儲訓之推薦表格，須於教專網填寫並列印後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評鑑人員進階研習推薦表須經評鑑推動小組審查通過，並由委員簽名後，方能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教學輔導教師儲訓推薦表，須由評鑑推動小組審查同意推薦，送教評會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課發會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依程序審查，並完成簽名後，方能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116000" y="1413000"/>
            <a:ext cx="7128000" cy="46083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16280" y="17701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187280" y="2349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專業務主管單位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: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育部師培藝教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育部定位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為教師專業發展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/>
          <p:cNvSpPr/>
          <p:nvPr/>
        </p:nvSpPr>
        <p:spPr>
          <a:xfrm>
            <a:off x="3203640" y="1859040"/>
            <a:ext cx="584280" cy="401400"/>
          </a:xfrm>
          <a:prstGeom prst="rightArrow">
            <a:avLst>
              <a:gd name="adj1" fmla="val 50000"/>
              <a:gd name="adj2" fmla="val 583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常見錯誤類型說明</a:t>
            </a:r>
            <a:r>
              <a:rPr b="1" lang="zh-TW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675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表件格式不符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用舊表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申辦表件應從網路下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參與比例計算錯誤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要協助核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別選擇錯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0" y="189000"/>
            <a:ext cx="6588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常見錯誤類型說明</a:t>
            </a:r>
            <a:r>
              <a:rPr b="1" lang="zh-TW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675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相關會議紀錄是否完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議題的寫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家長代表缺少身分註記（未到應寫請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推動小組會議次數（至少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189000"/>
            <a:ext cx="6588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常見錯誤類型說明</a:t>
            </a:r>
            <a:r>
              <a:rPr b="1" lang="zh-TW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群計劃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以提升學生學習成效為目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群活動內容語意模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教師增能為主，未能應用於教學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0" y="189000"/>
            <a:ext cx="6588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一、委員會成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行政人員、學校行政人員、學者專家、同級教師會代表及家長團體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且具備中小學教學經驗五年以上之委員不得少於委員總額二分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組成方式及比例，由直轄市、縣（市）政府定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0" y="189000"/>
            <a:ext cx="7308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縣市教專推動會初審注意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二、討論議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申請文件是否符合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輔導教師、進階人員推薦名單審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0" y="189000"/>
            <a:ext cx="7308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縣市教專推動會初審注意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1404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Arial"/>
              <a:ea typeface="標楷體"/>
            </a:endParaRPr>
          </a:p>
        </p:txBody>
      </p:sp>
      <p:sp>
        <p:nvSpPr>
          <p:cNvPr id="380" name="AutoShape 3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8"/>
          <p:cNvGrpSpPr/>
          <p:nvPr/>
        </p:nvGrpSpPr>
        <p:grpSpPr>
          <a:xfrm>
            <a:off x="324000" y="2946240"/>
            <a:ext cx="6120720" cy="1130040"/>
            <a:chOff x="324000" y="2946240"/>
            <a:chExt cx="6120720" cy="1130040"/>
          </a:xfrm>
        </p:grpSpPr>
        <p:sp>
          <p:nvSpPr>
            <p:cNvPr id="382" name="Line 9"/>
            <p:cNvSpPr/>
            <p:nvPr/>
          </p:nvSpPr>
          <p:spPr>
            <a:xfrm>
              <a:off x="670320" y="3877560"/>
              <a:ext cx="57744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0"/>
            <p:cNvSpPr/>
            <p:nvPr/>
          </p:nvSpPr>
          <p:spPr>
            <a:xfrm>
              <a:off x="324000" y="3678480"/>
              <a:ext cx="346320" cy="3978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2123640" y="2946240"/>
              <a:ext cx="340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4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依期程辦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1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3" descr="logo2"/>
          <p:cNvPicPr/>
          <p:nvPr/>
        </p:nvPicPr>
        <p:blipFill>
          <a:blip r:embed="rId2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1404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  <a:ea typeface="標楷體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990720" y="509112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4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351440" y="1481040"/>
            <a:ext cx="6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第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60000" y="3919680"/>
            <a:ext cx="7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第二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990720" y="283356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solidFill>
            <a:srgbClr val="008d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上網填寫申辦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solidFill>
            <a:srgbClr val="8abc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先經評鑑推動小組審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2" descr="logo2"/>
          <p:cNvPicPr/>
          <p:nvPr/>
        </p:nvPicPr>
        <p:blipFill>
          <a:blip r:embed="rId1"/>
          <a:stretch/>
        </p:blipFill>
        <p:spPr>
          <a:xfrm>
            <a:off x="8229600" y="605304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1404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  <a:ea typeface="標楷體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990720" y="509112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4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436400" y="148104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1f3f5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三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36400" y="391968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1f3f5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第四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7"/>
          <p:cNvSpPr/>
          <p:nvPr/>
        </p:nvSpPr>
        <p:spPr>
          <a:xfrm>
            <a:off x="990720" y="283356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8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solidFill>
            <a:srgbClr val="008d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依縣市所訂時間提送申辦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solidFill>
            <a:srgbClr val="8abc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需要補件時，依時限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logo2"/>
          <p:cNvPicPr/>
          <p:nvPr/>
        </p:nvPicPr>
        <p:blipFill>
          <a:blip r:embed="rId1"/>
          <a:stretch/>
        </p:blipFill>
        <p:spPr>
          <a:xfrm>
            <a:off x="8229600" y="605304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標楷體"/>
                <a:ea typeface="標楷體"/>
              </a:rPr>
              <a:t>對話時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858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2700360" y="429264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1"/>
          <p:cNvPicPr/>
          <p:nvPr/>
        </p:nvPicPr>
        <p:blipFill>
          <a:blip r:embed="rId1"/>
          <a:stretch/>
        </p:blipFill>
        <p:spPr>
          <a:xfrm>
            <a:off x="1908000" y="1197000"/>
            <a:ext cx="6432840" cy="4824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4932360" y="23493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0092"/>
                </a:solidFill>
                <a:latin typeface="Arial"/>
                <a:ea typeface="Arial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71280" y="2852280"/>
            <a:ext cx="356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[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新細明體"/>
              </a:rPr>
              <a:t>孩子的希望在教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3"/>
          <p:cNvSpPr txBox="1"/>
          <p:nvPr/>
        </p:nvSpPr>
        <p:spPr>
          <a:xfrm>
            <a:off x="2050920" y="3860640"/>
            <a:ext cx="4969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歡迎貴校的加入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414" name="Picture 9" descr="8"/>
          <p:cNvPicPr/>
          <p:nvPr/>
        </p:nvPicPr>
        <p:blipFill>
          <a:blip r:embed="rId1"/>
          <a:stretch/>
        </p:blipFill>
        <p:spPr>
          <a:xfrm>
            <a:off x="108000" y="5300640"/>
            <a:ext cx="5751360" cy="1374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1"/>
          <p:cNvSpPr/>
          <p:nvPr/>
        </p:nvSpPr>
        <p:spPr>
          <a:xfrm>
            <a:off x="4427640" y="2852640"/>
            <a:ext cx="3816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181f"/>
                </a:solidFill>
                <a:latin typeface="Arial"/>
              </a:rPr>
              <a:t>[ </a:t>
            </a:r>
            <a:r>
              <a:rPr b="0" lang="zh-TW" sz="2800" spc="-1" strike="noStrike">
                <a:solidFill>
                  <a:srgbClr val="d7181f"/>
                </a:solidFill>
                <a:latin typeface="Arial"/>
              </a:rPr>
              <a:t>我們就是專業 </a:t>
            </a:r>
            <a:r>
              <a:rPr b="0" lang="en-US" sz="2800" spc="-1" strike="noStrike">
                <a:solidFill>
                  <a:srgbClr val="d7181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logo2"/>
          <p:cNvPicPr/>
          <p:nvPr/>
        </p:nvPicPr>
        <p:blipFill>
          <a:blip r:embed="rId2"/>
          <a:stretch/>
        </p:blipFill>
        <p:spPr>
          <a:xfrm>
            <a:off x="7885080" y="5708520"/>
            <a:ext cx="11494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79280" y="141300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68360" y="2708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作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059280" y="1268280"/>
            <a:ext cx="5545080" cy="46087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129120" y="1413000"/>
            <a:ext cx="5348160" cy="12952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716280" y="17701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203640" y="29242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起，計畫及社群申請全部改為線上作業，須完成線上申請後，方能列印表格送縣市審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8"/>
          <p:cNvSpPr/>
          <p:nvPr/>
        </p:nvSpPr>
        <p:spPr>
          <a:xfrm>
            <a:off x="3203640" y="1859040"/>
            <a:ext cx="584280" cy="401400"/>
          </a:xfrm>
          <a:prstGeom prst="rightArrow">
            <a:avLst>
              <a:gd name="adj1" fmla="val 50000"/>
              <a:gd name="adj2" fmla="val 583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206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179280" y="141300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79280" y="270828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作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059280" y="1268280"/>
            <a:ext cx="5545080" cy="46087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3133800" y="1378080"/>
            <a:ext cx="5347800" cy="1296360"/>
            <a:chOff x="3133800" y="1378080"/>
            <a:chExt cx="5347800" cy="1296360"/>
          </a:xfrm>
        </p:grpSpPr>
        <p:sp>
          <p:nvSpPr>
            <p:cNvPr id="146" name="AutoShape 7"/>
            <p:cNvSpPr/>
            <p:nvPr/>
          </p:nvSpPr>
          <p:spPr>
            <a:xfrm>
              <a:off x="3133800" y="1378080"/>
              <a:ext cx="5347800" cy="129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008f"/>
                </a:gs>
                <a:gs pos="100000">
                  <a:srgbClr val="e9e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>
              <a:off x="3184200" y="1860480"/>
              <a:ext cx="585000" cy="401760"/>
            </a:xfrm>
            <a:prstGeom prst="rightArrow">
              <a:avLst>
                <a:gd name="adj1" fmla="val 50000"/>
                <a:gd name="adj2" fmla="val 606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9"/>
          <p:cNvSpPr/>
          <p:nvPr/>
        </p:nvSpPr>
        <p:spPr>
          <a:xfrm>
            <a:off x="3852720" y="1736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校對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30640" y="306864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為避免因彙整資料，而在學期中麻煩縣市及學校填報，因此配合線上申請作業，同時校對縣市及學校各項線上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206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179280" y="141300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270828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作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059280" y="1268280"/>
            <a:ext cx="5545080" cy="46087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3133800" y="1378080"/>
            <a:ext cx="5347800" cy="1296360"/>
            <a:chOff x="3133800" y="1378080"/>
            <a:chExt cx="5347800" cy="1296360"/>
          </a:xfrm>
        </p:grpSpPr>
        <p:sp>
          <p:nvSpPr>
            <p:cNvPr id="156" name="AutoShape 7"/>
            <p:cNvSpPr/>
            <p:nvPr/>
          </p:nvSpPr>
          <p:spPr>
            <a:xfrm>
              <a:off x="3133800" y="1378080"/>
              <a:ext cx="5347800" cy="129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008f"/>
                </a:gs>
                <a:gs pos="100000">
                  <a:srgbClr val="e9e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>
              <a:off x="3184200" y="1860480"/>
              <a:ext cx="585000" cy="401760"/>
            </a:xfrm>
            <a:prstGeom prst="rightArrow">
              <a:avLst>
                <a:gd name="adj1" fmla="val 50000"/>
                <a:gd name="adj2" fmla="val 606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3852720" y="1736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決定申請組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059280" y="3068640"/>
            <a:ext cx="542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逐年期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初辦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要先辦帳號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續辦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只要曾申請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年期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初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2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續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核心學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—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四年一期，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01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學年屆滿四年，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02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學年度不開放申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3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V="1">
            <a:off x="623880" y="3141360"/>
            <a:ext cx="6035760" cy="3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395280" y="2976480"/>
            <a:ext cx="228600" cy="336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84360" y="234936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標楷體"/>
              </a:rPr>
              <a:t>102</a:t>
            </a: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年申辦期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介       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3" descr="logo2"/>
          <p:cNvPicPr/>
          <p:nvPr/>
        </p:nvPicPr>
        <p:blipFill>
          <a:blip r:embed="rId2"/>
          <a:stretch/>
        </p:blipFill>
        <p:spPr>
          <a:xfrm>
            <a:off x="838836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7031" t="19716" r="6982" b="8092"/>
          <a:stretch/>
        </p:blipFill>
        <p:spPr>
          <a:xfrm>
            <a:off x="179280" y="836640"/>
            <a:ext cx="8353440" cy="5832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教專計畫辦理計畫與申請流程圖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教專計畫辦理計畫與申請流程圖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14696" t="19716" r="12092" b="5367"/>
          <a:stretch/>
        </p:blipFill>
        <p:spPr>
          <a:xfrm>
            <a:off x="0" y="907920"/>
            <a:ext cx="85564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49:19Z</dcterms:created>
  <dc:creator>USER</dc:creator>
  <dc:description/>
  <dc:language>en-US</dc:language>
  <cp:lastModifiedBy>東華大學附小</cp:lastModifiedBy>
  <dcterms:modified xsi:type="dcterms:W3CDTF">2013-02-20T09:06:09Z</dcterms:modified>
  <cp:revision>328</cp:revision>
  <dc:subject/>
  <dc:title>計畫內容修正與調整及未來辦理方向</dc:title>
</cp:coreProperties>
</file>