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9FF3-D18E-43F5-9B60-2B19926A1EC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-715,000-90,000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千元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)/5,959,601=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+60,000)/(5,959,601+60,000)=7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CDF-B31C-465A-9561-4ECC301F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A87-64A9-4C4B-AB91-C09ED2D1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946-4789-4966-B2F4-76E917B8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C533-508F-473D-B3EB-00C93A1C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B012-A294-4EEC-87E9-FBED2626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FE44-226C-44EC-BEC6-529A99C8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A991-68B2-41FB-9818-2BE9BECE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ED12-317D-4732-8471-4166689E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79C0-A300-4AA5-AA44-FA05E0DB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0533-D47C-460A-96D4-73B44267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67A8-7DB9-46B0-B36D-33968479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633-01FC-4330-81E2-3F7356DB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8690-C5B7-4ED2-96B4-C5851B81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9C32-4B2C-483E-B8C1-6C0F22E9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6ED2-BF34-4D46-B97A-DF91CDE1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0D25-1C81-4064-8E0B-A73CDDEF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7CD9-1507-494A-8403-7F795004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EE6-71E3-4634-8988-18FE96DA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1B4-5809-4E91-B7A5-F138B17A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A452-835A-4238-A0A3-0B2C072E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32D-1049-44E2-B31D-CC1F59C7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C2A-6F0D-4260-AD54-DCE777DC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2D17-F3E2-4653-890D-97F51869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8F3-8F28-4223-848B-95A42161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9051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AEAF-5908-4AFC-A8F7-DCA2B9FEF8E5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50560" y="1413000"/>
            <a:ext cx="7391160" cy="318960"/>
            <a:chOff x="250560" y="1413000"/>
            <a:chExt cx="7391160" cy="318960"/>
          </a:xfrm>
        </p:grpSpPr>
        <p:sp>
          <p:nvSpPr>
            <p:cNvPr id="10" name=""/>
            <p:cNvSpPr/>
            <p:nvPr/>
          </p:nvSpPr>
          <p:spPr>
            <a:xfrm>
              <a:off x="631440" y="141300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50200" y="141300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rcRect l="-2076" t="-4378" r="72137" b="-553"/>
          <a:stretch/>
        </p:blipFill>
        <p:spPr>
          <a:xfrm>
            <a:off x="250920" y="189000"/>
            <a:ext cx="93348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35280" y="5516640"/>
            <a:ext cx="4876920" cy="318960"/>
            <a:chOff x="3635280" y="551664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5280" y="551664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1920" y="551664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F176-1719-4A8A-8141-34FF81CF1770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1371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3366"/>
                </a:solidFill>
                <a:latin typeface="Arial"/>
              </a:rPr>
              <a:t>教育人事費設算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716360" y="3284640"/>
            <a:ext cx="388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簡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報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人：趙麗慶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-2076" t="-4378" r="72137" b="-553"/>
          <a:stretch/>
        </p:blipFill>
        <p:spPr>
          <a:xfrm>
            <a:off x="1042920" y="4221000"/>
            <a:ext cx="180828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30AA-8FA3-4969-BDE1-26EC05EF624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建議與指教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3366"/>
                </a:solidFill>
                <a:latin typeface="Arial"/>
              </a:rPr>
              <a:t>敬請指教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481644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627280" y="483408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140360" y="485136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651640" y="486900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164360" y="4797360"/>
            <a:ext cx="101916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F86-D01B-4554-9462-5194628451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報告大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前言</a:t>
            </a:r>
            <a:r>
              <a:rPr b="0" lang="zh-TW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明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學校員額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概算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調查表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預算彈性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FF1-B63E-4F5D-B7CD-E069AA440780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前言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係概估下一年度所需經費，而教育經費最大支出為人事費，約佔教育經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不包含退休撫卹及各項補助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） ，因此在財源有限下如何合理編列所需人事費概算，顯然非常重要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BDF1-51AB-4A89-922C-66C7E23098D0}" type="slidenum">
              <a:t>3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明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教職員全年度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標楷體"/>
                <a:hlinkClick r:id="rId2"/>
              </a:rPr>
              <a:t>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代課鐘點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每班每年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0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節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*(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中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60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小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26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工友全年度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行政職工友國內休假補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值日夜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退撫費、勞退準備金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保險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公保、健保、勞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1FE-180B-4E68-AF2B-B34DF558BC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一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預算員額≠編制員額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部分學校因為班級數減少，造成職員及工友超編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高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官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832-FF76-41C0-AF73-D8A2605BF8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二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滿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小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未達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5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生以上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746-B864-468D-B1A5-84EDA4EE29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概算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 14.5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當年度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估成長薪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設算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決定保險級距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設算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本俸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提撥比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C97-C764-48C5-9E2A-6948769A16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調查表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育人事費調查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中央及本府設算下年度教育經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事費支用明細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檢視是否須辦理人事費追加減預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1C2A-47EF-48B3-94D8-4A9F74A428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616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預算彈性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由於學校員額眾多且學年度與曆年度不一致，以至人事費無法設算剛好，因此需透過預算彈性來因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科目流用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各計畫科目內之人事費，不得自其他用途別科目流入，如有賸餘亦不得流出。在同一計畫之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分支計畫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其人事費可互相流用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追加（減）預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將部分編列過多人事費學校追減後追加人事費不足學校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調整待遇準備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由地方教育發展基金預算編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2,500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萬元統籌人事費來因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832C-4507-4B64-9E6D-59D378AA67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8:17:56Z</dcterms:created>
  <dc:creator>Alex Lee</dc:creator>
  <dc:description/>
  <dc:language>en-US</dc:language>
  <cp:lastModifiedBy>liching</cp:lastModifiedBy>
  <dcterms:modified xsi:type="dcterms:W3CDTF">2009-04-19T06:09:39Z</dcterms:modified>
  <cp:revision>54</cp:revision>
  <dc:subject/>
  <dc:title>歡迎！來自四面八方的伙伴！</dc:title>
</cp:coreProperties>
</file>