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8E21-0D13-4197-9E9C-E170B8D0E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9E1A-E152-4CCD-A073-53DF6CFF4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D323-A0CC-4187-AA9A-AFE5A3E30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217C-40A1-44E3-8199-8BF795D4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93B0-BDCB-4833-82C9-583BC812D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3E0C-8047-4FC8-9761-53A9404B5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4C7F-853C-4E5A-8249-819C784F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5A72-D883-4560-82B1-65CA7D1E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9E53-A0E8-4A39-BE1A-35F81C93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23D8-7BC4-4E28-9598-D2FDC1ECC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0381-3925-4340-AC74-EC815BE0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8A8D-69F0-42A1-8EA7-8C871100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045D-1017-422D-AFD0-33534534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D519-79EF-4C74-A742-DF6501A6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C253-574A-4AA5-927F-4908BD69D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179280" y="1332000"/>
            <a:ext cx="2073240" cy="5526000"/>
          </a:xfrm>
          <a:prstGeom prst="rect">
            <a:avLst/>
          </a:prstGeom>
          <a:solidFill>
            <a:srgbClr val="808080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324000" y="1844640"/>
            <a:ext cx="1784160" cy="934920"/>
          </a:xfrm>
          <a:prstGeom prst="roundRect">
            <a:avLst>
              <a:gd name="adj" fmla="val 16667"/>
            </a:avLst>
          </a:prstGeom>
          <a:solidFill>
            <a:srgbClr val="6399a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動員全校師生清理校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317520" y="3562200"/>
            <a:ext cx="1784160" cy="935280"/>
          </a:xfrm>
          <a:prstGeom prst="roundRect">
            <a:avLst>
              <a:gd name="adj" fmla="val 16667"/>
            </a:avLst>
          </a:prstGeom>
          <a:solidFill>
            <a:srgbClr val="6399a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申請國軍支援清理校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324000" y="5157720"/>
            <a:ext cx="1784160" cy="935280"/>
          </a:xfrm>
          <a:prstGeom prst="roundRect">
            <a:avLst>
              <a:gd name="adj" fmla="val 16667"/>
            </a:avLst>
          </a:prstGeom>
          <a:solidFill>
            <a:srgbClr val="6399a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啟動開口契約清理校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2268360" y="1628640"/>
            <a:ext cx="54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0ad12"/>
                </a:solidFill>
                <a:latin typeface="典匠中特圓"/>
                <a:ea typeface="典匠中特圓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2268360" y="3429000"/>
            <a:ext cx="59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0ad12"/>
                </a:solidFill>
                <a:latin typeface="典匠中特圓"/>
                <a:ea typeface="典匠中特圓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2268360" y="5013360"/>
            <a:ext cx="735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0ad12"/>
                </a:solidFill>
                <a:latin typeface="典匠中特圓"/>
                <a:ea typeface="典匠中特圓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0"/>
          <p:cNvSpPr/>
          <p:nvPr/>
        </p:nvSpPr>
        <p:spPr>
          <a:xfrm>
            <a:off x="2916360" y="1125360"/>
            <a:ext cx="5832360" cy="165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標楷體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颱風過後第一天上午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第</a:t>
            </a:r>
            <a:r>
              <a:rPr b="1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至</a:t>
            </a:r>
            <a:r>
              <a:rPr b="1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節課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，動員全校師生共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清理校園環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標楷體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需要外援協助清運的垃圾，擇定校內適當的地點做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垃圾暫時集中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C.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花蓮市及吉安鄉解除警報三天內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清運樹木及環境垃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至清潔回收場不收運棄費，需學校人員押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1"/>
          <p:cNvSpPr/>
          <p:nvPr/>
        </p:nvSpPr>
        <p:spPr>
          <a:xfrm>
            <a:off x="2987640" y="2924280"/>
            <a:ext cx="5904000" cy="1728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標楷體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請於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颱風過後上班日（含周休二日）</a:t>
            </a:r>
            <a:r>
              <a:rPr b="1" lang="zh-TW" sz="1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中午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12</a:t>
            </a:r>
            <a:r>
              <a:rPr b="1" lang="zh-TW" sz="1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時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前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填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「申請國軍支援救災需求表」，傳真至縣府民政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兵役行政科彙整後，轉報花蓮縣後備司令部派遣國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支援救災。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標楷體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民政處兵役行政科 傳真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230576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電話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221894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232047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227171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4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5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2"/>
          <p:cNvSpPr/>
          <p:nvPr/>
        </p:nvSpPr>
        <p:spPr>
          <a:xfrm>
            <a:off x="2987640" y="4797360"/>
            <a:ext cx="5832360" cy="194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標楷體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若有大型樹木需扶正或清運時，請於颱風過後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上班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1</a:t>
            </a:r>
            <a:r>
              <a:rPr b="1" lang="zh-TW" sz="1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天內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填寫學校搶修（險）通知單並傳真至教育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設施科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傳真：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8462782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；電話：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8462781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標楷體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教育處彙整後通知開口合約廠商準備機具人員，儘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至各校辦理災害搶險搶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C.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針對災害後重大樹木倒塌折斷需清運及砍除，小型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枝，請國軍、清潔隊及學校師生義工處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3"/>
          <p:cNvSpPr/>
          <p:nvPr/>
        </p:nvSpPr>
        <p:spPr>
          <a:xfrm>
            <a:off x="324000" y="260280"/>
            <a:ext cx="1784160" cy="935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颱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豪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5"/>
          <p:cNvSpPr/>
          <p:nvPr/>
        </p:nvSpPr>
        <p:spPr>
          <a:xfrm>
            <a:off x="2843280" y="189000"/>
            <a:ext cx="590544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因應「颱風」及「豪雨」等天然災害肆虐校園環境後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復原作業流程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。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5.09.</a:t>
            </a:r>
            <a:r>
              <a:rPr b="1" lang="zh-TW" sz="1400" spc="-1" strike="noStrike">
                <a:solidFill>
                  <a:srgbClr val="000000"/>
                </a:solidFill>
                <a:latin typeface="Arial"/>
              </a:rPr>
              <a:t>修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2124000" y="765000"/>
            <a:ext cx="719280" cy="0"/>
          </a:xfrm>
          <a:prstGeom prst="line">
            <a:avLst/>
          </a:prstGeom>
          <a:ln cap="rnd" w="381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7"/>
          <p:cNvSpPr/>
          <p:nvPr/>
        </p:nvSpPr>
        <p:spPr>
          <a:xfrm>
            <a:off x="1116000" y="1197000"/>
            <a:ext cx="216000" cy="576360"/>
          </a:xfrm>
          <a:prstGeom prst="downArrow">
            <a:avLst>
              <a:gd name="adj1" fmla="val 50000"/>
              <a:gd name="adj2" fmla="val 667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8"/>
          <p:cNvSpPr/>
          <p:nvPr/>
        </p:nvSpPr>
        <p:spPr>
          <a:xfrm>
            <a:off x="1116000" y="2924280"/>
            <a:ext cx="216000" cy="576000"/>
          </a:xfrm>
          <a:prstGeom prst="downArrow">
            <a:avLst>
              <a:gd name="adj1" fmla="val 50000"/>
              <a:gd name="adj2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9"/>
          <p:cNvSpPr/>
          <p:nvPr/>
        </p:nvSpPr>
        <p:spPr>
          <a:xfrm>
            <a:off x="1116000" y="4508640"/>
            <a:ext cx="216000" cy="576000"/>
          </a:xfrm>
          <a:prstGeom prst="downArrow">
            <a:avLst>
              <a:gd name="adj1" fmla="val 50000"/>
              <a:gd name="adj2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07:12:03Z</dcterms:created>
  <dc:creator>hlc</dc:creator>
  <dc:description/>
  <dc:language>en-US</dc:language>
  <cp:lastModifiedBy>user</cp:lastModifiedBy>
  <dcterms:modified xsi:type="dcterms:W3CDTF">2016-09-26T02:48:02Z</dcterms:modified>
  <cp:revision>30</cp:revision>
  <dc:subject/>
  <dc:title>投影片 1</dc:title>
</cp:coreProperties>
</file>