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B74-01E9-451F-8766-C0BAFDD4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671-D9A0-4C5A-BF6E-12629395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020-62AC-456D-851B-E3D8B881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FBD-4CBD-4DBB-A1D2-2DC99CB4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843-BF3B-4BB9-89F0-B965D80B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D3B-1849-40C9-B857-0D96CE4E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DD0-9A5A-4464-A1DE-51EEAAC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D3B-EC64-4849-AFA9-9D3225C9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C4C-266F-40E2-8381-E0E60C7F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1BC-137D-4735-9E70-7D62AD6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DA2-5583-40EE-B724-6D88FDE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BBD-1611-4D61-9A46-626F71D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734C-635C-4B27-9A3B-8FBE98C1C69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260280"/>
            <a:ext cx="816264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16Z</dcterms:created>
  <dc:creator>Valued Acer Customer</dc:creator>
  <dc:description/>
  <dc:language>en-US</dc:language>
  <cp:lastModifiedBy>22</cp:lastModifiedBy>
  <dcterms:modified xsi:type="dcterms:W3CDTF">2013-11-27T01:06:29Z</dcterms:modified>
  <cp:revision>1</cp:revision>
  <dc:subject/>
  <dc:title>投影片 1</dc:title>
</cp:coreProperties>
</file>