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D8D-1A6B-454A-9638-2C8860A0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88C-8956-4EF7-AB9D-CE991368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277-FD5C-47EE-931F-7663F1F8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B4A-066C-4920-851B-17D8482A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0A4-B4F8-4F60-BE41-DD8FCD1F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E1D-5898-4228-892B-7FAEC6B9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A98-5157-458D-91FE-82417403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BC3-EB58-4E61-9A80-8854BBC6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504-E47A-4A49-BEF1-99F00536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BB3-6595-455D-B22E-C7C669D2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425-03B5-414E-A381-47C0145D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AE6-CE48-42AD-8CE8-9499E3C9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9EFA-02AF-45B0-93AA-8581CCDD40F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189000"/>
            <a:ext cx="81626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4:38Z</dcterms:created>
  <dc:creator>Valued Acer Customer</dc:creator>
  <dc:description/>
  <dc:language>en-US</dc:language>
  <cp:lastModifiedBy>22</cp:lastModifiedBy>
  <dcterms:modified xsi:type="dcterms:W3CDTF">2013-11-27T01:06:18Z</dcterms:modified>
  <cp:revision>1</cp:revision>
  <dc:subject/>
  <dc:title>投影片 1</dc:title>
</cp:coreProperties>
</file>