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D57-36DD-497A-9591-68D306AE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E0C-6869-4FD1-88E1-4AE9A85A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B3B-BD8F-41C0-8578-13914EF4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7A3-9F87-46BA-9CB9-941FC445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ED2-084E-4B15-A33D-2062B59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B6B-DD7C-42D0-86EA-7716B81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E1A-DA9F-4122-B5C8-C539DD8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5FC-4623-4FF2-BF34-CBDFF524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ED7-89B8-473B-A4E0-76565455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A02-6A50-4F52-ABBA-B46D1F1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D11-1020-4120-ACD9-3169126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32B-939C-48F5-A0CD-8077F47F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265E-1B00-4287-B850-23ECF8FBC9D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8200" y="399960"/>
            <a:ext cx="8067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54Z</dcterms:created>
  <dc:creator>Valued Acer Customer</dc:creator>
  <dc:description/>
  <dc:language>en-US</dc:language>
  <cp:lastModifiedBy>22</cp:lastModifiedBy>
  <dcterms:modified xsi:type="dcterms:W3CDTF">2013-11-27T01:06:44Z</dcterms:modified>
  <cp:revision>1</cp:revision>
  <dc:subject/>
  <dc:title>投影片 1</dc:title>
</cp:coreProperties>
</file>