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179-7676-4316-8BA9-2FB2C952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769-7EDB-40D6-B917-0596B723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17D-6454-4304-84D7-5A1DB34D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9BC-C8D7-49A4-8CE1-5C9BD3A6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2AD-0BBA-4918-BDC2-F852E1DD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99C-69AF-4FDA-8257-5E0A8D91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F6C-91A8-4478-9D95-42AD4C0D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062-D3CA-40B6-A681-DF2C4FD3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C76-BCD4-42C6-8360-5231A9EE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C10-7ABA-44B1-8913-5B582123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AE4-6D96-402B-B30E-F9660783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92F-6947-4E9C-92F6-69208CBC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319F-932C-48D4-BE83-7DE31B85A45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3:29Z</dcterms:created>
  <dc:creator>Valued Acer Customer</dc:creator>
  <dc:description/>
  <dc:language>en-US</dc:language>
  <cp:lastModifiedBy>22</cp:lastModifiedBy>
  <dcterms:modified xsi:type="dcterms:W3CDTF">2013-11-27T01:06:03Z</dcterms:modified>
  <cp:revision>1</cp:revision>
  <dc:subject/>
  <dc:title>投影片 1</dc:title>
</cp:coreProperties>
</file>