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52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1.png" ContentType="image/png"/>
  <Override PartName="/ppt/media/image66.jpeg" ContentType="image/jpeg"/>
  <Override PartName="/ppt/media/image19.jpeg" ContentType="image/jpeg"/>
  <Override PartName="/ppt/media/image15.jpeg" ContentType="image/jpeg"/>
  <Override PartName="/ppt/media/image29.gif" ContentType="image/gif"/>
  <Override PartName="/ppt/media/image5.jpeg" ContentType="image/jpeg"/>
  <Override PartName="/ppt/media/image61.png" ContentType="image/png"/>
  <Override PartName="/ppt/media/image20.jpeg" ContentType="image/jpeg"/>
  <Override PartName="/ppt/media/image68.jpeg" ContentType="image/jpeg"/>
  <Override PartName="/ppt/media/image69.png" ContentType="image/png"/>
  <Override PartName="/ppt/media/image67.jpeg" ContentType="image/jpeg"/>
  <Override PartName="/ppt/media/image18.jpeg" ContentType="image/jpeg"/>
  <Override PartName="/ppt/media/image17.jpeg" ContentType="image/jpeg"/>
  <Override PartName="/ppt/media/image65.jpeg" ContentType="image/jpeg"/>
  <Override PartName="/ppt/media/image2.gif" ContentType="image/gif"/>
  <Override PartName="/ppt/media/image39.jpeg" ContentType="image/jpeg"/>
  <Override PartName="/ppt/media/image45.gif" ContentType="image/gif"/>
  <Override PartName="/ppt/media/image12.png" ContentType="image/png"/>
  <Override PartName="/ppt/media/image8.png" ContentType="image/png"/>
  <Override PartName="/ppt/media/image23.jpeg" ContentType="image/jpeg"/>
  <Override PartName="/ppt/media/image49.jpeg" ContentType="image/jpeg"/>
  <Override PartName="/ppt/media/image1.gif" ContentType="image/gif"/>
  <Override PartName="/ppt/media/image16.png" ContentType="image/png"/>
  <Override PartName="/ppt/media/image64.jpeg" ContentType="image/jpeg"/>
  <Override PartName="/ppt/media/image38.jpeg" ContentType="image/jpeg"/>
  <Override PartName="/ppt/media/image21.jpeg" ContentType="image/jpeg"/>
  <Override PartName="/ppt/media/image62.gif" ContentType="image/gif"/>
  <Override PartName="/ppt/media/image35.jpeg" ContentType="image/jpeg"/>
  <Override PartName="/ppt/media/image6.jpeg" ContentType="image/jpeg"/>
  <Override PartName="/ppt/media/image28.gif" ContentType="image/gif"/>
  <Override PartName="/ppt/media/image42.jpeg" ContentType="image/jpeg"/>
  <Override PartName="/ppt/media/image5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8523-2AB8-4D9B-BF57-83E00630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854C-787F-4A19-891D-370D7E15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68EE-C025-45C9-A5EC-4D7340B5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57DC-70A1-4522-BD5E-E14F2733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58E4-94F7-46B3-B142-CD61C0877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09C-D817-47EF-9515-41EB3493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FD40-0AE5-4EC6-A277-085BC6D9F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282-5147-4E7D-A1AC-A3CB1AE9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99A-B098-4DB3-B42C-B303DDF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F88-EB1D-430D-8519-38F47B2B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1D5-29B5-4654-90DD-BEB10848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BAD-22C0-41D0-8F83-4A2FD3F4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48D7-5EA7-44A8-BE59-138BB388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6CCE-7598-4832-A78A-D0E7CC32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6631-91EF-4B73-B9FF-016A84C3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B21-2FD1-413C-8C3F-AAA3DFE4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8880-8C99-49AD-A295-166F55E7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78DD-6605-49F0-89DB-6F510BF9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2DD-E9B5-4ABE-BF2D-4F0C6E8A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75F1-80CD-40ED-822D-B845CADB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9A82-D248-408D-A3F4-FD5B1DA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A19F-F73C-4F8D-991E-48D21F0F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A1FA-425C-4AC7-AFE6-0941BEBE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7149-1F35-43F8-8CCA-919C0C18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A8A-6582-4D3A-824E-7D8ABBF5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581-2D45-45BC-9605-3BD07D90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DE9-4AAA-47D4-A6F6-4182E887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115-9945-420E-9960-7D22FED8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B1F-5571-4AFD-9BB7-1088FF9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573-2683-4570-9281-22B45502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0E0-6A91-4E66-A2FA-0BDE3C2F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898C-6103-40D0-A2C2-810FF336A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2545-7466-4D52-9E13-216DCC0C4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8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news.xinhuanet.com/food/2005-06/30/xinsrc_51206023013118333076129.jpg" TargetMode="External"/><Relationship Id="rId11" Type="http://schemas.openxmlformats.org/officeDocument/2006/relationships/image" Target="../media/image27.jpeg"/><Relationship Id="rId12" Type="http://schemas.openxmlformats.org/officeDocument/2006/relationships/image" Target="../media/image28.gi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hyperlink" Target="http://www.bj.chinanews.com.cn/news/2004/2005-03-04/1/_1109927762_3.jpg" TargetMode="External"/><Relationship Id="rId8" Type="http://schemas.openxmlformats.org/officeDocument/2006/relationships/image" Target="../media/image52.jpeg"/><Relationship Id="rId9" Type="http://schemas.openxmlformats.org/officeDocument/2006/relationships/image" Target="../media/image53.gi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tw.wrs.yahoo.com/;_ylt=ApLH51IwJNIgKkAaSaDD6t521gt.;_ylu=X3oDMTA4NDgyNWN0BHNlYwNwcm9m/SIG=13q3noj33/EXP=1131592020/**http%3A%2F%2Fwww.genting.com.my%2Fch%2Fleisure%2Fart_ent%2F2003%2Fmoremusic%2F5566%2Fimages%2F5566_2.jpg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png"/><Relationship Id="rId8" Type="http://schemas.openxmlformats.org/officeDocument/2006/relationships/image" Target="../media/image62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94D9-F9B9-4CBF-AA43-6F6F9DCDA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04920" y="22860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文鼎海報體"/>
              </a:rPr>
              <a:t>慢性病防治與營養</a:t>
            </a:r>
            <a:endParaRPr b="0" i="1" lang="en-US" sz="16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文鼎海報體"/>
              <a:ea typeface="文鼎海報體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0" y="4572000"/>
            <a:ext cx="48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廖建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前花蓮縣衛生局技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洄瀾電視台健康百分百主持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04E5-382F-46B7-9AEE-B70DD24BD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743200" y="1905120"/>
            <a:ext cx="24382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醣類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蛋白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脂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生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礦物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38080" y="609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養素</a:t>
            </a:r>
            <a:endParaRPr b="0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490C-C716-4459-B1EC-F104200CF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預防慢性病營養原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773000"/>
            <a:ext cx="6613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油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fa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膽固醇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cholesterol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鹽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sal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高纖維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igh fiber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AEE6-E4AE-4E34-97CC-49CBE5935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817080" y="518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怎麼吃最少油 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8710-7BFF-40E0-B305-B5B3A94C8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823760" y="18828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降低脂肪的法寶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96440" cy="236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9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53F7-FD38-47E8-82F0-7B06E32EE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503520" y="47520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擇適合的烹調方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71600" y="1341360"/>
            <a:ext cx="6477120" cy="181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447920" y="3573360"/>
            <a:ext cx="6476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FB75-83BB-4E75-AC09-3AA112E22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2"/>
          <p:cNvSpPr txBox="1"/>
          <p:nvPr/>
        </p:nvSpPr>
        <p:spPr>
          <a:xfrm>
            <a:off x="838080" y="914400"/>
            <a:ext cx="601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標楷體"/>
              </a:rPr>
              <a:t>膽固醇 血油異常</a:t>
            </a:r>
            <a:endParaRPr b="0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895480" y="2743200"/>
            <a:ext cx="5381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動脈粥狀硬化主要原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易罹患冠狀動脈心臟病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504D-31E7-4557-9C39-3BBF798E8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過量反式脂肪酸"/>
          <p:cNvPicPr/>
          <p:nvPr/>
        </p:nvPicPr>
        <p:blipFill>
          <a:blip r:embed="rId1"/>
          <a:stretch/>
        </p:blipFill>
        <p:spPr>
          <a:xfrm>
            <a:off x="0" y="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305040" y="6206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反式脂肪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207480" y="1484280"/>
            <a:ext cx="23997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食品業者以植物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原料透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氫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處理產生之油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耐高溫、不易變質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存放更久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常吃此類食物易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升高壞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降低好的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A04A-7226-429C-B68A-75D4882B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049560" y="549360"/>
            <a:ext cx="30639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7545240" cy="4041720"/>
        </p:xfrm>
        <a:graphic>
          <a:graphicData uri="http://schemas.openxmlformats.org/drawingml/2006/table">
            <a:tbl>
              <a:tblPr/>
              <a:tblGrid>
                <a:gridCol w="3773520"/>
                <a:gridCol w="37717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炒飯、炒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飯、糙米飯、壽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煎豬排、炸豬排、梅干扣肉、炸獅子頭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豬排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粉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蒜泥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蔥爆牛肉、蠔油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燉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荷包蛋、炒蛋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蛋花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湯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3431-F2DF-406F-87BA-7907F5E65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908000" y="549360"/>
            <a:ext cx="5886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2565360"/>
          <a:ext cx="8001000" cy="295272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魚片、炸魚排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清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臭豆腐、麻婆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涼拌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蔬菜、乾煸四季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泡菜、蔬菜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0"/>
          <p:cNvSpPr/>
          <p:nvPr/>
        </p:nvSpPr>
        <p:spPr>
          <a:xfrm>
            <a:off x="2124000" y="549360"/>
            <a:ext cx="55260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2BEA-FB6D-4956-98AA-2B4480A2B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71640" y="2728800"/>
            <a:ext cx="7696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是什麼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？</a:t>
            </a:r>
            <a:br>
              <a:rPr sz="28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礦物質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一種，是人體調節生理機能不可或缺的元素。</a:t>
            </a:r>
            <a:r>
              <a:rPr b="1" i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攝取過多時，易罹患高血壓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攝取太少或缺乏時，會有疲勞、虛弱、倦怠的現象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鈉可以從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自然食物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加工食品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調味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或某些藥物中獲得，而其最主要來源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食鹽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食鹽中約含有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40%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鈉，即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一公克食鹽中含有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Comic Sans MS"/>
                <a:ea typeface="標楷體"/>
              </a:rPr>
              <a:t>400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毫克的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標楷體"/>
                <a:ea typeface="標楷體"/>
              </a:rPr>
              <a:t>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348000" y="119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cc"/>
                </a:solidFill>
                <a:latin typeface="Times New Roman"/>
                <a:ea typeface="標楷體"/>
              </a:rPr>
              <a:t>低鹽飲食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84BB-B5A0-47FA-94A7-5D4CE8DF2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4140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Times New Roman"/>
              </a:rPr>
              <a:t>健康的挑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52480" y="12952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近年追求健康的成果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心臟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糖尿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肥胖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腎結石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自體免疫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文明病暴增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724280" y="1981080"/>
            <a:ext cx="231840" cy="3700440"/>
          </a:xfrm>
          <a:custGeom>
            <a:avLst/>
            <a:gdLst>
              <a:gd name="textAreaLeft" fmla="*/ 0 w 231840"/>
              <a:gd name="textAreaRight" fmla="*/ 83520 w 231840"/>
              <a:gd name="textAreaTop" fmla="*/ 96480 h 3700440"/>
              <a:gd name="textAreaBottom" fmla="*/ 3603960 h 37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 rot="16200000">
            <a:off x="5076720" y="3533760"/>
            <a:ext cx="550800" cy="493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019920" y="2209680"/>
            <a:ext cx="609480" cy="33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cc"/>
                </a:solidFill>
                <a:latin typeface="Times New Roman"/>
                <a:ea typeface="華康布丁體 Std W7"/>
              </a:rPr>
              <a:t>健康成為口號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45A1-18FD-4136-A50F-D47730486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鈉過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流行病學研究支持鈉與高血壓發生之相關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其他研究顯示，鹽分攝取會影響高血壓性腎臟疾病和腦血管疾病，尤其是對鹽敏感的人。因為目前無法立即確定對鹽的敏感性，且美國人之鹽分攝取，已大大的超過身體所需，建議其鹽分攝取應降低至每天不超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克以預防高血壓。故應儘可能減少烹調用鹽及用餐時額外加鹽，並避免高鹽分、加工產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8082-0AA7-4A64-B0DA-31D51C620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467080" y="33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990033"/>
                </a:solidFill>
                <a:uFillTx/>
                <a:latin typeface="Arial"/>
                <a:ea typeface="標楷體"/>
              </a:rPr>
              <a:t>空腹血糖高常見的生活飲食習慣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237480" y="1268280"/>
            <a:ext cx="21099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飯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麵吃過量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喜歡喝飲料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果吃到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全不運動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4292640"/>
          <a:ext cx="7921800" cy="1650960"/>
        </p:xfrm>
        <a:graphic>
          <a:graphicData uri="http://schemas.openxmlformats.org/drawingml/2006/table">
            <a:tbl>
              <a:tblPr/>
              <a:tblGrid>
                <a:gridCol w="3960720"/>
                <a:gridCol w="396108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33"/>
                          </a:solidFill>
                          <a:latin typeface="標楷體"/>
                          <a:ea typeface="標楷體"/>
                        </a:rPr>
                        <a:t>甜度高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00"/>
                          </a:solidFill>
                          <a:latin typeface="標楷體"/>
                          <a:ea typeface="標楷體"/>
                        </a:rPr>
                        <a:t>甜度低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榴槤 釋迦 龍眼 荔枝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甘蔗 芒果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蘋果 蕃茄 水梨 奇異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芭樂 西瓜 香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5" descr="汽水"/>
          <p:cNvPicPr/>
          <p:nvPr/>
        </p:nvPicPr>
        <p:blipFill>
          <a:blip r:embed="rId1"/>
          <a:stretch/>
        </p:blipFill>
        <p:spPr>
          <a:xfrm>
            <a:off x="111600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C030"/>
          <p:cNvPicPr/>
          <p:nvPr/>
        </p:nvPicPr>
        <p:blipFill>
          <a:blip r:embed="rId2"/>
          <a:stretch/>
        </p:blipFill>
        <p:spPr>
          <a:xfrm>
            <a:off x="6012000" y="1557360"/>
            <a:ext cx="1296720" cy="10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F016"/>
          <p:cNvPicPr/>
          <p:nvPr/>
        </p:nvPicPr>
        <p:blipFill>
          <a:blip r:embed="rId3"/>
          <a:stretch/>
        </p:blipFill>
        <p:spPr>
          <a:xfrm>
            <a:off x="6588000" y="2708280"/>
            <a:ext cx="165600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182F-85D4-4DCD-A40C-3037945E8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份量要如何換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504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生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公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大約是生的菜一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煮熟的菜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~4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切好後大約是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98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167462369"/>
          <p:cNvPicPr/>
          <p:nvPr/>
        </p:nvPicPr>
        <p:blipFill>
          <a:blip r:embed="rId1"/>
          <a:srcRect l="7938" t="5619" r="8041" b="0"/>
          <a:stretch/>
        </p:blipFill>
        <p:spPr>
          <a:xfrm>
            <a:off x="5943600" y="2209680"/>
            <a:ext cx="2247840" cy="165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467512765"/>
          <p:cNvPicPr/>
          <p:nvPr/>
        </p:nvPicPr>
        <p:blipFill>
          <a:blip r:embed="rId2"/>
          <a:stretch/>
        </p:blipFill>
        <p:spPr>
          <a:xfrm>
            <a:off x="5867280" y="441972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731F-4FDD-40AA-A80C-A953FDE37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5373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女生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每人每天要攝取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份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蔬菜和水果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份蔬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份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個半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蔬菜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1.5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.5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碗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167462369"/>
          <p:cNvPicPr/>
          <p:nvPr/>
        </p:nvPicPr>
        <p:blipFill>
          <a:blip r:embed="rId1"/>
          <a:stretch/>
        </p:blipFill>
        <p:spPr>
          <a:xfrm>
            <a:off x="1042920" y="5300640"/>
            <a:ext cx="1268640" cy="10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167462369"/>
          <p:cNvPicPr/>
          <p:nvPr/>
        </p:nvPicPr>
        <p:blipFill>
          <a:blip r:embed="rId2"/>
          <a:stretch/>
        </p:blipFill>
        <p:spPr>
          <a:xfrm>
            <a:off x="2627280" y="5300640"/>
            <a:ext cx="1163520" cy="106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467512765"/>
          <p:cNvPicPr/>
          <p:nvPr/>
        </p:nvPicPr>
        <p:blipFill>
          <a:blip r:embed="rId3"/>
          <a:stretch/>
        </p:blipFill>
        <p:spPr>
          <a:xfrm>
            <a:off x="5003640" y="530064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467512765"/>
          <p:cNvPicPr/>
          <p:nvPr/>
        </p:nvPicPr>
        <p:blipFill>
          <a:blip r:embed="rId4"/>
          <a:stretch/>
        </p:blipFill>
        <p:spPr>
          <a:xfrm>
            <a:off x="6732720" y="5300640"/>
            <a:ext cx="124596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5442-679B-4817-BABC-0A93A5A14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9640" y="1413000"/>
            <a:ext cx="81360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男生每人每天要攝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份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和水果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份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  <a:ea typeface="Arial"/>
              </a:rPr>
              <a:t>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份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個半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.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</a:rPr>
              <a:t>碗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167462369"/>
          <p:cNvPicPr/>
          <p:nvPr/>
        </p:nvPicPr>
        <p:blipFill>
          <a:blip r:embed="rId1"/>
          <a:stretch/>
        </p:blipFill>
        <p:spPr>
          <a:xfrm>
            <a:off x="2286000" y="5334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67462369"/>
          <p:cNvPicPr/>
          <p:nvPr/>
        </p:nvPicPr>
        <p:blipFill>
          <a:blip r:embed="rId2"/>
          <a:stretch/>
        </p:blipFill>
        <p:spPr>
          <a:xfrm>
            <a:off x="4267080" y="5334120"/>
            <a:ext cx="144792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26E4-614A-4B3E-B085-7B005E1A8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51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1280" y="162864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除了力行蔬果天天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外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更需注意多攝取</a:t>
            </a:r>
            <a:r>
              <a:rPr b="1" lang="zh-TW" sz="3200" spc="-1" strike="noStrike">
                <a:solidFill>
                  <a:srgbClr val="ff0000"/>
                </a:solidFill>
                <a:latin typeface="Arial Narrow"/>
              </a:rPr>
              <a:t>各種顏色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的蔬菜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因為各種顏色的蔬果中富含了各種可以預防疾病的維他命及礦物質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蔬果的顏色大致可分為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紅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橙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黃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綠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藍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紫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白等七種顏色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好像雨後的彩虹一樣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如果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我們每天能夠均衡攝取到這七種顏色的蔬菜和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就可以維持身體健康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這個攝食原理叫做</a:t>
            </a:r>
            <a:r>
              <a:rPr b="1" lang="zh-TW" sz="3200" spc="-1" strike="noStrike">
                <a:solidFill>
                  <a:srgbClr val="ff3300"/>
                </a:solidFill>
                <a:latin typeface="Arial Narrow"/>
              </a:rPr>
              <a:t>蔬果的彩虹攝食原則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845610366"/>
          <p:cNvPicPr/>
          <p:nvPr/>
        </p:nvPicPr>
        <p:blipFill>
          <a:blip r:embed="rId1"/>
          <a:stretch/>
        </p:blipFill>
        <p:spPr>
          <a:xfrm>
            <a:off x="6781680" y="228600"/>
            <a:ext cx="2183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8A37-C020-4EC8-BB7B-CD7A48FD0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蘋果、樱桃、西瓜、蕃茄、草莓、紅棗、枸杞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875030428"/>
          <p:cNvPicPr/>
          <p:nvPr/>
        </p:nvPicPr>
        <p:blipFill>
          <a:blip r:embed="rId1"/>
          <a:stretch/>
        </p:blipFill>
        <p:spPr>
          <a:xfrm>
            <a:off x="1065240" y="2489040"/>
            <a:ext cx="163656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143895282"/>
          <p:cNvPicPr/>
          <p:nvPr/>
        </p:nvPicPr>
        <p:blipFill>
          <a:blip r:embed="rId2"/>
          <a:stretch/>
        </p:blipFill>
        <p:spPr>
          <a:xfrm>
            <a:off x="2924280" y="2558880"/>
            <a:ext cx="1616040" cy="1678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西瓜"/>
          <p:cNvPicPr/>
          <p:nvPr/>
        </p:nvPicPr>
        <p:blipFill>
          <a:blip r:embed="rId3"/>
          <a:stretch/>
        </p:blipFill>
        <p:spPr>
          <a:xfrm>
            <a:off x="611280" y="501336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293596610"/>
          <p:cNvPicPr/>
          <p:nvPr/>
        </p:nvPicPr>
        <p:blipFill>
          <a:blip r:embed="rId4"/>
          <a:stretch/>
        </p:blipFill>
        <p:spPr>
          <a:xfrm>
            <a:off x="4859280" y="2637000"/>
            <a:ext cx="208908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草莓2"/>
          <p:cNvPicPr/>
          <p:nvPr/>
        </p:nvPicPr>
        <p:blipFill>
          <a:blip r:embed="rId5"/>
          <a:stretch/>
        </p:blipFill>
        <p:spPr>
          <a:xfrm>
            <a:off x="2987640" y="5084640"/>
            <a:ext cx="1652760" cy="12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093"/>
          <p:cNvPicPr/>
          <p:nvPr/>
        </p:nvPicPr>
        <p:blipFill>
          <a:blip r:embed="rId6"/>
          <a:stretch/>
        </p:blipFill>
        <p:spPr>
          <a:xfrm>
            <a:off x="7164360" y="270828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>
            <a:hlinkClick r:id="rId7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>
            <a:hlinkClick r:id="rId8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4" descr="2004611102133123"/>
          <p:cNvPicPr/>
          <p:nvPr/>
        </p:nvPicPr>
        <p:blipFill>
          <a:blip r:embed="rId9"/>
          <a:stretch/>
        </p:blipFill>
        <p:spPr>
          <a:xfrm>
            <a:off x="5076720" y="486900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xinsrc_5120602301311833307612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36000" y="486900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03"/>
          <p:cNvPicPr/>
          <p:nvPr/>
        </p:nvPicPr>
        <p:blipFill>
          <a:blip r:embed="rId12"/>
          <a:stretch/>
        </p:blipFill>
        <p:spPr>
          <a:xfrm>
            <a:off x="7924680" y="304920"/>
            <a:ext cx="64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E69-1104-4D79-907D-98EB39AB1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紅色食物大多富含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花青素和茄紅素等營養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護血管彈性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使血液循環良好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，臉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自然紅潤，腦部血液暢通，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記憶力也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變好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08"/>
          <p:cNvPicPr/>
          <p:nvPr/>
        </p:nvPicPr>
        <p:blipFill>
          <a:blip r:embed="rId1"/>
          <a:stretch/>
        </p:blipFill>
        <p:spPr>
          <a:xfrm>
            <a:off x="3203640" y="537372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A742-5DFC-4C47-87D5-8B6F04C13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5999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9900"/>
                </a:solidFill>
                <a:latin typeface="Times New Roman"/>
              </a:rPr>
              <a:t>紅蘿蔔、地瓜、胚芽米、玉米、柳丁、橘子、芒果、鳳梨、水梨、木瓜、檸檬、哈蜜瓜</a:t>
            </a:r>
            <a:r>
              <a:rPr b="0" lang="zh-TW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008"/>
          <p:cNvPicPr/>
          <p:nvPr/>
        </p:nvPicPr>
        <p:blipFill>
          <a:blip r:embed="rId1"/>
          <a:stretch/>
        </p:blipFill>
        <p:spPr>
          <a:xfrm>
            <a:off x="1065240" y="385776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033"/>
          <p:cNvPicPr/>
          <p:nvPr/>
        </p:nvPicPr>
        <p:blipFill>
          <a:blip r:embed="rId2"/>
          <a:stretch/>
        </p:blipFill>
        <p:spPr>
          <a:xfrm>
            <a:off x="2195640" y="4869000"/>
            <a:ext cx="2041560" cy="198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19"/>
          <p:cNvPicPr/>
          <p:nvPr/>
        </p:nvPicPr>
        <p:blipFill>
          <a:blip r:embed="rId3"/>
          <a:stretch/>
        </p:blipFill>
        <p:spPr>
          <a:xfrm>
            <a:off x="4788000" y="4869000"/>
            <a:ext cx="1727280" cy="157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178197447"/>
          <p:cNvPicPr/>
          <p:nvPr/>
        </p:nvPicPr>
        <p:blipFill>
          <a:blip r:embed="rId4"/>
          <a:stretch/>
        </p:blipFill>
        <p:spPr>
          <a:xfrm>
            <a:off x="7315200" y="34290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465861598"/>
          <p:cNvPicPr/>
          <p:nvPr/>
        </p:nvPicPr>
        <p:blipFill>
          <a:blip r:embed="rId5"/>
          <a:stretch/>
        </p:blipFill>
        <p:spPr>
          <a:xfrm>
            <a:off x="7315200" y="4495680"/>
            <a:ext cx="1523880" cy="11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145547638"/>
          <p:cNvPicPr/>
          <p:nvPr/>
        </p:nvPicPr>
        <p:blipFill>
          <a:blip r:embed="rId6"/>
          <a:stretch/>
        </p:blipFill>
        <p:spPr>
          <a:xfrm>
            <a:off x="5715000" y="3505320"/>
            <a:ext cx="1378080" cy="129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469865740"/>
          <p:cNvPicPr/>
          <p:nvPr/>
        </p:nvPicPr>
        <p:blipFill>
          <a:blip r:embed="rId7"/>
          <a:stretch/>
        </p:blipFill>
        <p:spPr>
          <a:xfrm>
            <a:off x="6477120" y="55627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地瓜1"/>
          <p:cNvPicPr/>
          <p:nvPr/>
        </p:nvPicPr>
        <p:blipFill>
          <a:blip r:embed="rId8"/>
          <a:stretch/>
        </p:blipFill>
        <p:spPr>
          <a:xfrm>
            <a:off x="2987640" y="3500280"/>
            <a:ext cx="223848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339627805"/>
          <p:cNvPicPr/>
          <p:nvPr/>
        </p:nvPicPr>
        <p:blipFill>
          <a:blip r:embed="rId9"/>
          <a:stretch/>
        </p:blipFill>
        <p:spPr>
          <a:xfrm>
            <a:off x="6934320" y="685800"/>
            <a:ext cx="19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03"/>
          <p:cNvPicPr/>
          <p:nvPr/>
        </p:nvPicPr>
        <p:blipFill>
          <a:blip r:embed="rId10"/>
          <a:stretch/>
        </p:blipFill>
        <p:spPr>
          <a:xfrm>
            <a:off x="900000" y="5489640"/>
            <a:ext cx="863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0FCF-A3AD-4CDB-954A-9CE14B9DC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黃色食物，多為五穀根莖澱粉類，比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地瓜、薏仁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主要含澱粉和糖，是能量的主要來源，人體若多攝取五穀類食物，獲得足夠的能量，以利內臟器官運作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含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抗氧化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物質，如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及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558B-AF4D-443C-9884-99F36E31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惡性腫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,046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心臟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,67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腦血管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13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肺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90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糖尿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21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事故傷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66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下呼吸道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197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肝病及肝硬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91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高血壓性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7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腎炎、腎徵症候群及腎性病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0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3C24-5FD5-41D3-92BD-A7BF4693E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蔥、菠菜、油菜、芥藍菜、青江菜、大黃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青椒、高麗菜、空心菜、花椰菜、芹菜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蘆筍、奇異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1246813698"/>
          <p:cNvPicPr/>
          <p:nvPr/>
        </p:nvPicPr>
        <p:blipFill>
          <a:blip r:embed="rId1"/>
          <a:stretch/>
        </p:blipFill>
        <p:spPr>
          <a:xfrm>
            <a:off x="3056040" y="3714840"/>
            <a:ext cx="1401840" cy="129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414516808"/>
          <p:cNvPicPr/>
          <p:nvPr/>
        </p:nvPicPr>
        <p:blipFill>
          <a:blip r:embed="rId2"/>
          <a:stretch/>
        </p:blipFill>
        <p:spPr>
          <a:xfrm>
            <a:off x="5076720" y="522936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青花菜1"/>
          <p:cNvPicPr/>
          <p:nvPr/>
        </p:nvPicPr>
        <p:blipFill>
          <a:blip r:embed="rId3"/>
          <a:stretch/>
        </p:blipFill>
        <p:spPr>
          <a:xfrm>
            <a:off x="5003640" y="3573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868343663"/>
          <p:cNvPicPr/>
          <p:nvPr/>
        </p:nvPicPr>
        <p:blipFill>
          <a:blip r:embed="rId4"/>
          <a:stretch/>
        </p:blipFill>
        <p:spPr>
          <a:xfrm>
            <a:off x="7093080" y="51577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016"/>
          <p:cNvPicPr/>
          <p:nvPr/>
        </p:nvPicPr>
        <p:blipFill>
          <a:blip r:embed="rId5"/>
          <a:srcRect l="0" t="12062" r="0" b="10477"/>
          <a:stretch/>
        </p:blipFill>
        <p:spPr>
          <a:xfrm rot="565200">
            <a:off x="7497720" y="3735360"/>
            <a:ext cx="1381320" cy="1319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002"/>
          <p:cNvPicPr/>
          <p:nvPr/>
        </p:nvPicPr>
        <p:blipFill>
          <a:blip r:embed="rId6"/>
          <a:stretch/>
        </p:blipFill>
        <p:spPr>
          <a:xfrm>
            <a:off x="2700360" y="5157720"/>
            <a:ext cx="18288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9DCD-67C3-40A8-B017-9C4F653BE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635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134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綠色食物，尤其是深綠色食物，含有粗纖維、維生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群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是一種重要的抗氧化劑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幫助減低某些癌症和慢性病的發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可強化眼睛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群參與了能量代謝作用，與肝臟細胞營業素新陳代謝有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多吃綠色蔬果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可滋養肝臟、膽、眼睛、筋骨肌肉等，可說有百益而無一害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054"/>
          <p:cNvPicPr/>
          <p:nvPr/>
        </p:nvPicPr>
        <p:blipFill>
          <a:blip r:embed="rId1"/>
          <a:stretch/>
        </p:blipFill>
        <p:spPr>
          <a:xfrm>
            <a:off x="7740720" y="836640"/>
            <a:ext cx="1116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FED9-2F8E-472D-AAE3-99471F26B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紫色或藍黑色蔬果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cc00cc"/>
                </a:solidFill>
                <a:latin typeface="Times New Roman"/>
              </a:rPr>
              <a:t>葡萄、葡萄乾、藍莓、茄子、加州李、桑椹、香菇、海帶、髮菜、黑木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006"/>
          <p:cNvPicPr/>
          <p:nvPr/>
        </p:nvPicPr>
        <p:blipFill>
          <a:blip r:embed="rId1"/>
          <a:stretch/>
        </p:blipFill>
        <p:spPr>
          <a:xfrm>
            <a:off x="1330200" y="3137040"/>
            <a:ext cx="1646280" cy="2003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17600390"/>
          <p:cNvPicPr/>
          <p:nvPr/>
        </p:nvPicPr>
        <p:blipFill>
          <a:blip r:embed="rId2"/>
          <a:stretch/>
        </p:blipFill>
        <p:spPr>
          <a:xfrm>
            <a:off x="2895480" y="51814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466116904"/>
          <p:cNvPicPr/>
          <p:nvPr/>
        </p:nvPicPr>
        <p:blipFill>
          <a:blip r:embed="rId3"/>
          <a:stretch/>
        </p:blipFill>
        <p:spPr>
          <a:xfrm>
            <a:off x="7086600" y="3276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248001977"/>
          <p:cNvPicPr/>
          <p:nvPr/>
        </p:nvPicPr>
        <p:blipFill>
          <a:blip r:embed="rId4"/>
          <a:stretch/>
        </p:blipFill>
        <p:spPr>
          <a:xfrm>
            <a:off x="4952880" y="5029200"/>
            <a:ext cx="1839960" cy="1523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1318870984"/>
          <p:cNvPicPr/>
          <p:nvPr/>
        </p:nvPicPr>
        <p:blipFill>
          <a:blip r:embed="rId5"/>
          <a:stretch/>
        </p:blipFill>
        <p:spPr>
          <a:xfrm>
            <a:off x="2895480" y="33526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771944215"/>
          <p:cNvPicPr/>
          <p:nvPr/>
        </p:nvPicPr>
        <p:blipFill>
          <a:blip r:embed="rId6"/>
          <a:stretch/>
        </p:blipFill>
        <p:spPr>
          <a:xfrm>
            <a:off x="5029200" y="34290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_1109927762_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50292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08"/>
          <p:cNvPicPr/>
          <p:nvPr/>
        </p:nvPicPr>
        <p:blipFill>
          <a:blip r:embed="rId9"/>
          <a:stretch/>
        </p:blipFill>
        <p:spPr>
          <a:xfrm>
            <a:off x="971640" y="5300640"/>
            <a:ext cx="19429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4B80-A38C-4784-B625-F23D501E0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8720" y="720720"/>
            <a:ext cx="6635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紫色或藍黑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此類食物大多富含礦物質與微量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香菇富含多醣體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有抑制腫瘤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作用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可增加細胞免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上述舉例食物都含有不少的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鈣、鐵、硒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元素，對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骨骼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成長非常有幫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適量攝取能提昇免疫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有助加強記憶力、抗老化、</a:t>
            </a:r>
            <a:r>
              <a:rPr b="0" lang="zh-TW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降低癌症發生率功能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32162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圖片預覽"/>
          <p:cNvPicPr/>
          <p:nvPr/>
        </p:nvPicPr>
        <p:blipFill>
          <a:blip r:embed="rId2"/>
          <a:stretch/>
        </p:blipFill>
        <p:spPr>
          <a:xfrm>
            <a:off x="6172200" y="46483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03"/>
          <p:cNvPicPr/>
          <p:nvPr/>
        </p:nvPicPr>
        <p:blipFill>
          <a:blip r:embed="rId3"/>
          <a:stretch/>
        </p:blipFill>
        <p:spPr>
          <a:xfrm>
            <a:off x="7956720" y="1773360"/>
            <a:ext cx="8632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977D-49FE-497D-9D8A-4C555612C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白蘿蔔、冬瓜、竹筍、洋菇、金針菇、香蕉、芭樂 、西洋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225709509"/>
          <p:cNvPicPr/>
          <p:nvPr/>
        </p:nvPicPr>
        <p:blipFill>
          <a:blip r:embed="rId1"/>
          <a:stretch/>
        </p:blipFill>
        <p:spPr>
          <a:xfrm>
            <a:off x="7238880" y="2819520"/>
            <a:ext cx="16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15"/>
          <p:cNvPicPr/>
          <p:nvPr/>
        </p:nvPicPr>
        <p:blipFill>
          <a:blip r:embed="rId2"/>
          <a:stretch/>
        </p:blipFill>
        <p:spPr>
          <a:xfrm>
            <a:off x="1131840" y="3137040"/>
            <a:ext cx="1684440" cy="165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16342815"/>
          <p:cNvPicPr/>
          <p:nvPr/>
        </p:nvPicPr>
        <p:blipFill>
          <a:blip r:embed="rId3"/>
          <a:stretch/>
        </p:blipFill>
        <p:spPr>
          <a:xfrm>
            <a:off x="2743200" y="3352680"/>
            <a:ext cx="1905120" cy="1373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320352185"/>
          <p:cNvPicPr/>
          <p:nvPr/>
        </p:nvPicPr>
        <p:blipFill>
          <a:blip r:embed="rId4"/>
          <a:stretch/>
        </p:blipFill>
        <p:spPr>
          <a:xfrm>
            <a:off x="2743200" y="4952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1152694256"/>
          <p:cNvPicPr/>
          <p:nvPr/>
        </p:nvPicPr>
        <p:blipFill>
          <a:blip r:embed="rId5"/>
          <a:stretch/>
        </p:blipFill>
        <p:spPr>
          <a:xfrm>
            <a:off x="4932360" y="3284640"/>
            <a:ext cx="207792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1093358138"/>
          <p:cNvPicPr/>
          <p:nvPr/>
        </p:nvPicPr>
        <p:blipFill>
          <a:blip r:embed="rId6"/>
          <a:stretch/>
        </p:blipFill>
        <p:spPr>
          <a:xfrm>
            <a:off x="723888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15652"/>
          <p:cNvPicPr/>
          <p:nvPr/>
        </p:nvPicPr>
        <p:blipFill>
          <a:blip r:embed="rId7"/>
          <a:stretch/>
        </p:blipFill>
        <p:spPr>
          <a:xfrm>
            <a:off x="4952880" y="4952880"/>
            <a:ext cx="1981440" cy="1649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010"/>
          <p:cNvPicPr/>
          <p:nvPr/>
        </p:nvPicPr>
        <p:blipFill>
          <a:blip r:embed="rId8"/>
          <a:stretch/>
        </p:blipFill>
        <p:spPr>
          <a:xfrm>
            <a:off x="1116000" y="5157720"/>
            <a:ext cx="115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8EF0-0C55-4C9C-BB1F-BC1DE304E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0769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冬瓜含水份及水溶性纖維，可滋潤皮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竹筍含粗纖維，能加速大腸蠕動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幫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排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降低癌症發生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促進心臟健康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持膽固醇指數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23335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6A2C-CFEA-4889-99DC-F430C6EA6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104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蔬果天天 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9</a:t>
            </a:r>
            <a:br>
              <a:rPr sz="4800"/>
            </a:b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健康改造生活口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早餐蔬果汁爽口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再吃地瓜和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下課果乾當零嘴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午餐青菜一定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</a:rPr>
              <a:t>午茶來根紅蘿蔔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餐前蔬果不會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9900"/>
                </a:solidFill>
                <a:latin typeface="Times New Roman"/>
              </a:rPr>
              <a:t>生菜沙拉不怕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份量不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7.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拒絕檳榔和菸酒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生活改造健康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m-1"/>
          <p:cNvPicPr/>
          <p:nvPr/>
        </p:nvPicPr>
        <p:blipFill>
          <a:blip r:embed="rId1"/>
          <a:stretch/>
        </p:blipFill>
        <p:spPr>
          <a:xfrm>
            <a:off x="3581280" y="525780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6" descr="圖片預覽"/>
          <p:cNvPicPr/>
          <p:nvPr/>
        </p:nvPicPr>
        <p:blipFill>
          <a:blip r:embed="rId2"/>
          <a:stretch/>
        </p:blipFill>
        <p:spPr>
          <a:xfrm>
            <a:off x="0" y="5257800"/>
            <a:ext cx="266400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8" descr="圖片預覽"/>
          <p:cNvPicPr/>
          <p:nvPr/>
        </p:nvPicPr>
        <p:blipFill>
          <a:blip r:embed="rId3"/>
          <a:stretch/>
        </p:blipFill>
        <p:spPr>
          <a:xfrm>
            <a:off x="6705720" y="533412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A34D-E6C4-4A2B-8CEF-913CCDFBD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世紀健康用餐十守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先吃蔬菜再吃肉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肉類蛋白豆類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雜糧纖維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菇類蔥蒜樣樣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可見脂肪要</a:t>
            </a:r>
            <a:r>
              <a:rPr b="1" lang="en-US" sz="3600" spc="-1" strike="noStrike">
                <a:solidFill>
                  <a:srgbClr val="000000"/>
                </a:solidFill>
                <a:latin typeface="新細明體"/>
              </a:rPr>
              <a:t>say no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外皮肥肉要挑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吃醃燻和燒烤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蒸煮清燉最爽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碰甜點不會錯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天天蔬果健康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200572016263"/>
          <p:cNvPicPr/>
          <p:nvPr/>
        </p:nvPicPr>
        <p:blipFill>
          <a:blip r:embed="rId1"/>
          <a:stretch/>
        </p:blipFill>
        <p:spPr>
          <a:xfrm>
            <a:off x="0" y="51814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hef002"/>
          <p:cNvPicPr/>
          <p:nvPr/>
        </p:nvPicPr>
        <p:blipFill>
          <a:blip r:embed="rId2"/>
          <a:stretch/>
        </p:blipFill>
        <p:spPr>
          <a:xfrm>
            <a:off x="5562720" y="51814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930A-B430-42CE-870B-489BBB4E0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" descr="background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0" y="762120"/>
            <a:ext cx="6553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400" spc="-1" strike="noStrike">
                <a:solidFill>
                  <a:srgbClr val="6600cc"/>
                </a:solidFill>
                <a:latin typeface="華康布丁體 Std W7"/>
                <a:ea typeface="華康布丁體 Std W7"/>
              </a:rPr>
              <a:t>健康百分百  人生才精采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謝謝聆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9900"/>
                </a:solidFill>
                <a:latin typeface="華康布丁體 Std W7"/>
                <a:ea typeface="華康布丁體 Std W7"/>
              </a:rPr>
              <a:t>祝 活得健康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</a:t>
            </a:r>
            <a:r>
              <a:rPr b="1" lang="zh-TW" sz="3600" spc="-1" strike="noStrike">
                <a:solidFill>
                  <a:srgbClr val="0033cc"/>
                </a:solidFill>
                <a:latin typeface="華康布丁體 Std W7"/>
                <a:ea typeface="華康布丁體 Std W7"/>
              </a:rPr>
              <a:t>活得快樂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   </a:t>
            </a:r>
            <a:r>
              <a:rPr b="1" lang="zh-TW" sz="3600" spc="-1" strike="noStrike">
                <a:solidFill>
                  <a:srgbClr val="990099"/>
                </a:solidFill>
                <a:latin typeface="華康布丁體 Std W7"/>
                <a:ea typeface="華康布丁體 Std W7"/>
              </a:rPr>
              <a:t>活得自在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ECC1-0012-4641-A0E8-D02C823EA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癌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氣管、支氣管和肺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肝和肝內膽管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9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結腸、直腸和肛門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4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女性乳房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2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口腔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胃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列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攝護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食道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胰臟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6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子宮頸及部位未明示子宮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DE45-A391-47B7-B29E-5D32AF60B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花蓮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惡性腫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心臟疾病（高血壓性疾病除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腦血管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事故傷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肺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肝病及肝硬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高血壓性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下呼吸道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敗血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0C20-01A4-4E3E-AB84-4FFB8E141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80880" y="30492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飽和脂肪酸與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D:\Documents and Settings\pctest\桌面\File0127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46B0-17D4-4C54-A8DD-11BAFAD83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088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膽固醇過高與動脈硬化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D:\Documents and Settings\pctest\桌面\File0126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44BB-8621-4010-A2E1-3C707612D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304920"/>
            <a:ext cx="7543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蔗糖吃過多與蛀牙、龋齒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素食者與營養不均衡、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D:\Documents and Settings\pctest\桌面\File0128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68B5-174F-4CF6-BA3D-F6E58C0D3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精緻與大腸病變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D:\Documents and Settings\pctest\桌面\File0129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廖容瑜</cp:lastModifiedBy>
  <dcterms:modified xsi:type="dcterms:W3CDTF">2011-11-20T03:40:14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