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CB35-7542-4409-9698-D7FE0A1FFE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F1D5-E77C-443E-87A6-33506C691C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E0EC-0968-44D3-9B93-EE20B51993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信任是特質也是能力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是先天也是後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信任產生力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願意傾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呈現真實自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請求協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激發潛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信任是心理契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期望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角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C0F-0EAD-4B6C-92C3-414294FC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13D-91E6-4396-89BB-DEED706B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A56-C215-4B8D-9451-174C0FB7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9B3-A6CA-4AED-B84E-8182D3B3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E6C1-F4A3-491E-BDF0-2A1BF772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64AD-9DA8-484F-B2D9-0614A588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4DDE-5B6D-4532-BB5D-93C4DFCF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4DB0-9C03-4087-8206-24B38873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B619-953F-4911-B893-89ADC1DC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B9DD-D8CD-4C3C-8908-4F96C77C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1BF0-87CC-4388-BE31-CDC27FF2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F92-0783-404E-AEFD-66E10E71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CB8F-E6A6-475C-A748-627F08A7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0665-0824-4EE2-A0AA-D0476445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4C04-6349-4908-9B87-4A4106D4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732F-6AA4-47D3-A90B-469789A3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05FF-B8F4-44F1-9A6C-A575EB1B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1C9-A6F8-4CBD-AF32-EEE5D9FB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640-75C7-4A46-A503-1FC7998F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04D-7AA8-43E3-8E2C-42E35CA5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A56-1058-4717-956D-DBB8E590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A725-0207-4F82-862E-81E87EF1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BA6-F955-4BFE-BDA3-617F350D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5CB-A215-42E1-AC66-E3CDFFF9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12007024z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4D49-CDE9-4D08-9E70-511724879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1CA1-954D-4B7B-8087-0D372AF5C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../Local%2520Settings/Temporary%2520Internet%2520Files/Content.IE5/4PIBGTUB/&#25945;&#23560;&#25945;&#23416;&#35264;&#23519;&#35611;&#24107;&#22521;&#35347;&#35430;&#35611;/&#35430;&#35611;&#31532;&#22235;&#32068;/&#28415;&#20998;&#20316;&#25991;&#12300;&#36984;&#25799;&#12301;.pps" TargetMode="External"/><Relationship Id="rId3" Type="http://schemas.openxmlformats.org/officeDocument/2006/relationships/hyperlink" Target="../Local%20Settings/Temporary%20Internet%20Files/Content.IE5/4PIBGTUB/&#21555;&#24800;&#35998;/&#26519;&#32681;&#20625;.wmv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1142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花蓮縣偏遠鄉鎮地區國小口腔潔牙觀摩說明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花蓮市忠孝國小校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吳惠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rId2"/>
          </p:cNvPr>
          <p:cNvSpPr/>
          <p:nvPr/>
        </p:nvSpPr>
        <p:spPr>
          <a:xfrm>
            <a:off x="8567640" y="5734080"/>
            <a:ext cx="576360" cy="6825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82560"/>
              <a:gd name="textAreaBottom" fmla="*/ 645480 h 682560"/>
            </a:gdLst>
            <a:ahLst/>
            <a:rect l="textAreaLeft" t="textAreaTop" r="textAreaRight" b="textAreaBottom"/>
            <a:pathLst>
              <a:path w="21600" h="25578">
                <a:moveTo>
                  <a:pt x="0" y="0"/>
                </a:moveTo>
                <a:lnTo>
                  <a:pt x="21600" y="0"/>
                </a:lnTo>
                <a:lnTo>
                  <a:pt x="21600" y="25578"/>
                </a:lnTo>
                <a:lnTo>
                  <a:pt x="0" y="25578"/>
                </a:lnTo>
                <a:close/>
              </a:path>
              <a:path fill="lightenLess" w="21600" h="255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78">
                <a:moveTo>
                  <a:pt x="21600" y="0"/>
                </a:moveTo>
                <a:lnTo>
                  <a:pt x="21600" y="25578"/>
                </a:lnTo>
                <a:lnTo>
                  <a:pt x="20200" y="24178"/>
                </a:lnTo>
                <a:lnTo>
                  <a:pt x="20200" y="1400"/>
                </a:lnTo>
                <a:close/>
              </a:path>
              <a:path fill="darkenLess" w="21600" h="25578">
                <a:moveTo>
                  <a:pt x="21600" y="25578"/>
                </a:moveTo>
                <a:lnTo>
                  <a:pt x="0" y="25578"/>
                </a:lnTo>
                <a:lnTo>
                  <a:pt x="1400" y="24178"/>
                </a:lnTo>
                <a:lnTo>
                  <a:pt x="20200" y="24178"/>
                </a:lnTo>
                <a:close/>
              </a:path>
              <a:path fill="lighten" w="21600" h="25578">
                <a:moveTo>
                  <a:pt x="0" y="255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78"/>
                </a:lnTo>
                <a:close/>
              </a:path>
              <a:path fill="darkenLess" w="21600" h="25578">
                <a:moveTo>
                  <a:pt x="5273" y="5974"/>
                </a:moveTo>
                <a:lnTo>
                  <a:pt x="12271" y="5974"/>
                </a:lnTo>
                <a:lnTo>
                  <a:pt x="16327" y="9473"/>
                </a:lnTo>
                <a:lnTo>
                  <a:pt x="16327" y="19604"/>
                </a:lnTo>
                <a:lnTo>
                  <a:pt x="5273" y="19604"/>
                </a:lnTo>
                <a:close/>
              </a:path>
              <a:path fill="darken" w="21600" h="25578">
                <a:moveTo>
                  <a:pt x="12271" y="5974"/>
                </a:moveTo>
                <a:lnTo>
                  <a:pt x="16327" y="9473"/>
                </a:lnTo>
                <a:lnTo>
                  <a:pt x="12271" y="947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19640" y="378936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pren101l"/>
          <p:cNvPicPr/>
          <p:nvPr/>
        </p:nvPicPr>
        <p:blipFill>
          <a:blip r:embed="rId2"/>
          <a:stretch/>
        </p:blipFill>
        <p:spPr>
          <a:xfrm>
            <a:off x="1547640" y="0"/>
            <a:ext cx="59216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</a:rPr>
              <a:t>心    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是一種支持學校現存優勢能力，並擴展以前未曾探究與開發的能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4"/>
          <p:cNvSpPr/>
          <p:nvPr/>
        </p:nvSpPr>
        <p:spPr>
          <a:xfrm>
            <a:off x="2556000" y="1700280"/>
            <a:ext cx="3816360" cy="2665440"/>
          </a:xfrm>
          <a:custGeom>
            <a:avLst/>
            <a:gdLst>
              <a:gd name="textAreaLeft" fmla="*/ 954000 w 3816360"/>
              <a:gd name="textAreaRight" fmla="*/ 2862360 w 3816360"/>
              <a:gd name="textAreaTop" fmla="*/ 666360 h 2665440"/>
              <a:gd name="textAreaBottom" fmla="*/ 1999080 h 26654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771640" y="333360"/>
            <a:ext cx="3745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覺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覺察需求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知能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516720" y="234936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慢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慢慢來，先求有再求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492360" y="465300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樂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專業是核心的正向思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0" y="220500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同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同路偕行、專業提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 rot="20087400">
            <a:off x="6877080" y="765000"/>
            <a:ext cx="790560" cy="1656000"/>
          </a:xfrm>
          <a:custGeom>
            <a:avLst/>
            <a:gdLst>
              <a:gd name="textAreaLeft" fmla="*/ 105840 w 790560"/>
              <a:gd name="textAreaRight" fmla="*/ 684720 w 790560"/>
              <a:gd name="textAreaTop" fmla="*/ 289800 h 1656000"/>
              <a:gd name="textAreaBottom" fmla="*/ 120060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3"/>
          <p:cNvSpPr/>
          <p:nvPr/>
        </p:nvSpPr>
        <p:spPr>
          <a:xfrm rot="2464200">
            <a:off x="6732360" y="4220640"/>
            <a:ext cx="649080" cy="1584360"/>
          </a:xfrm>
          <a:custGeom>
            <a:avLst/>
            <a:gdLst>
              <a:gd name="textAreaLeft" fmla="*/ 86760 w 649080"/>
              <a:gd name="textAreaRight" fmla="*/ 562320 w 6490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 rot="8579400">
            <a:off x="1230120" y="4051440"/>
            <a:ext cx="677520" cy="1814400"/>
          </a:xfrm>
          <a:custGeom>
            <a:avLst/>
            <a:gdLst>
              <a:gd name="textAreaLeft" fmla="*/ 90720 w 677520"/>
              <a:gd name="textAreaRight" fmla="*/ 586800 w 677520"/>
              <a:gd name="textAreaTop" fmla="*/ 317520 h 1814400"/>
              <a:gd name="textAreaBottom" fmla="*/ 1315440 h 18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051830"/>
                <a:lnTo>
                  <a:pt x="16035" y="19105"/>
                </a:lnTo>
                <a:lnTo>
                  <a:pt x="0" y="17280"/>
                </a:lnTo>
                <a:lnTo>
                  <a:pt x="16035" y="10465"/>
                </a:lnTo>
                <a:lnTo>
                  <a:pt x="16035" y="12625"/>
                </a:lnTo>
                <a:arcTo wR="21600" hR="7560" stAng="1051830" swAng="-69439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 rot="17349600">
            <a:off x="759960" y="760320"/>
            <a:ext cx="1658880" cy="804960"/>
          </a:xfrm>
          <a:custGeom>
            <a:avLst/>
            <a:gdLst>
              <a:gd name="textAreaLeft" fmla="*/ 290160 w 1658880"/>
              <a:gd name="textAreaRight" fmla="*/ 1202760 w 1658880"/>
              <a:gd name="textAreaTop" fmla="*/ 107640 h 804960"/>
              <a:gd name="textAreaBottom" fmla="*/ 697320 h 804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964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Times New Roman"/>
              </a:rPr>
              <a:t>不要怕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生命長短無法掌握， 可以掌握的是生命的姿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要寬、要闊、要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要廣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付出，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讓生命更寬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付出無求，讓生命更深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402920" y="1981080"/>
            <a:ext cx="705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</a:rPr>
              <a:t>感謝聆聽、敬請指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MCj04344750000[1]"/>
          <p:cNvPicPr/>
          <p:nvPr/>
        </p:nvPicPr>
        <p:blipFill>
          <a:blip r:embed="rId2"/>
          <a:stretch/>
        </p:blipFill>
        <p:spPr>
          <a:xfrm>
            <a:off x="250920" y="3357720"/>
            <a:ext cx="9144000" cy="229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</a:rPr>
              <a:t>護士的基本專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47640" y="1413000"/>
            <a:ext cx="59040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護理工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健康促進學校相關事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000000"/>
                </a:solidFill>
                <a:latin typeface="Times New Roman"/>
              </a:rPr>
              <a:t>對   待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0" spc="-1" strike="noStrike">
                <a:solidFill>
                  <a:srgbClr val="000000"/>
                </a:solidFill>
                <a:latin typeface="Times New Roman"/>
              </a:rPr>
              <a:t>「心」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716280"/>
            <a:ext cx="89647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經驗固然重要，卻需要不斷的累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9" descr="dglxasset[1]"/>
          <p:cNvPicPr/>
          <p:nvPr/>
        </p:nvPicPr>
        <p:blipFill>
          <a:blip r:embed="rId2"/>
          <a:stretch/>
        </p:blipFill>
        <p:spPr>
          <a:xfrm>
            <a:off x="250920" y="0"/>
            <a:ext cx="3967200" cy="344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成長的關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要被框架綁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要忘記目的在成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成長的方式是多元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更重要的是不要只有交差 的心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顆善良的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329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助人的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熱情的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好我亦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0" spc="-1" strike="noStrike">
                <a:solidFill>
                  <a:srgbClr val="000000"/>
                </a:solidFill>
                <a:latin typeface="標楷體"/>
              </a:rPr>
              <a:t>信 任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c0c0c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標楷體"/>
              </a:rPr>
              <a:t>信  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57240" y="1628280"/>
            <a:ext cx="7500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是良性互動的基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是特質也是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產生力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是一種心理契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受外在因素的影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與欺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2:02:29Z</dcterms:created>
  <dc:creator>user</dc:creator>
  <dc:description/>
  <dc:language>en-US</dc:language>
  <cp:lastModifiedBy>User</cp:lastModifiedBy>
  <dcterms:modified xsi:type="dcterms:W3CDTF">2011-10-04T09:24:57Z</dcterms:modified>
  <cp:revision>45</cp:revision>
  <dc:subject/>
  <dc:title>投影片 1</dc:title>
</cp:coreProperties>
</file>