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FFAD-7C18-4D29-A668-428E6A2B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1BB-65D1-4488-AB0D-F70AEADF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859F-979C-4600-A303-5F61A50A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C357-9F6C-45EE-9E7B-6F84AAB8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409E-9B9A-4AEA-A162-FEDF155E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2E83-1990-47B8-B3F1-698C5CF2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3D15-620A-4019-A361-59F96CC9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CD44-9315-46E4-964F-16073E71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3093-C065-4ECD-A310-4C0E2EE1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021D-6A02-4BB7-90EA-7ADB5184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3168-0BD7-4D10-9623-3C0AA7E3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7F9C-7EAC-437C-96FF-07B1FFDD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487C-5145-40AE-B0BF-66FC46E0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C992-11F4-4EA1-B321-832762E7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9D0A-9F7A-46C8-86BB-177161A8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C5C7-A2AF-460E-9265-C996D39B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11DD-9BB4-4327-BCCB-60357320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9E3-E7EA-4EC3-B5E5-DE03EA10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161D-3AAD-4844-AF2F-383ECED9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5B5B-242B-4F13-842D-2CD9C675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154B-0CCE-401A-AC7E-F2C5861D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C25-20E7-4FD8-B832-C8FE6086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B133-5B96-4D2D-BFD2-FCFCACC3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557-C1CF-4F9F-B430-59E4F47F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3" marL="19051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4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5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6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1FF8-ACC2-4BCA-B431-524461A4ADAE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50560" y="1413000"/>
            <a:ext cx="7391160" cy="318960"/>
            <a:chOff x="250560" y="1413000"/>
            <a:chExt cx="7391160" cy="318960"/>
          </a:xfrm>
        </p:grpSpPr>
        <p:sp>
          <p:nvSpPr>
            <p:cNvPr id="10" name=""/>
            <p:cNvSpPr/>
            <p:nvPr/>
          </p:nvSpPr>
          <p:spPr>
            <a:xfrm>
              <a:off x="631440" y="141300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50200" y="141300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rcRect l="-2076" t="-4378" r="72137" b="-553"/>
          <a:stretch/>
        </p:blipFill>
        <p:spPr>
          <a:xfrm>
            <a:off x="250920" y="189000"/>
            <a:ext cx="93348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35280" y="5516640"/>
            <a:ext cx="4876920" cy="318960"/>
            <a:chOff x="3635280" y="551664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5280" y="551664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1920" y="551664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D4F5-DABF-4B50-B286-A9E2B4748F2F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3.&#25945;&#32946;&#37096;&#35036;&#21161;&#21450;&#22996;&#36774;&#35336;&#30059;&#32147;&#36027;&#32232;&#21015;&#22522;&#28310;&#34920;.doc" TargetMode="External"/><Relationship Id="rId2" Type="http://schemas.openxmlformats.org/officeDocument/2006/relationships/hyperlink" Target="file:///&#24120;&#29992;&#27861;&#35215;/5.&#33457;&#34030;&#32291;98&#24180;&#24230;&#38928;&#31639;&#20849;&#21516;&#24615;&#36027;&#29992;&#32232;&#21015;&#22522;&#28310;(980106&#20462;&#35330;).doc" TargetMode="External"/><Relationship Id="rId3" Type="http://schemas.openxmlformats.org/officeDocument/2006/relationships/hyperlink" Target="file:///&#24120;&#29992;&#27861;&#35215;/13.&#36557;&#20844;&#25945;&#20154;&#21729;&#20860;&#32887;&#36027;&#21450;&#35611;&#24231;&#37912;&#40670;&#36027;&#25903;&#32102;&#35215;&#23450;(960912&#20462;&#35330;).doc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25903;&#20986;&#24977;&#35657;&#34389;&#29702;&#35201;&#40670;/&#25903;&#20986;&#24977;&#35657;&#34389;&#29702;&#40670;3.doc" TargetMode="External"/><Relationship Id="rId2" Type="http://schemas.openxmlformats.org/officeDocument/2006/relationships/hyperlink" Target="file:///&#25903;&#20986;&#24977;&#35657;&#34389;&#29702;&#35201;&#40670;/&#25903;&#20986;&#24977;&#35657;&#34389;&#29702;&#40670;3.doc" TargetMode="External"/><Relationship Id="rId3" Type="http://schemas.openxmlformats.org/officeDocument/2006/relationships/hyperlink" Target="file:///&#35079;&#26412;%20&#22283;&#20013;&#23567;&#21508;&#39006;&#27243;&#24335;&#34920;&#26684;_980225.xls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11.&#21508;&#27231;&#38364;&#27966;&#21729;&#21443;&#21152;&#21508;&#38917;&#35347;&#32244;&#25110;&#35611;&#32722;&#22577;&#25903;&#36027;&#29992;&#35215;&#23450;(900828&#35330;&#23450;).doc" TargetMode="External"/><Relationship Id="rId2" Type="http://schemas.openxmlformats.org/officeDocument/2006/relationships/hyperlink" Target="file:///&#24120;&#29992;&#27861;&#35215;/10.&#33457;&#34030;&#32291;&#25919;&#24220;&#20986;&#24046;&#26053;&#36027;&#22577;&#25903;&#35036;&#20805;&#35215;&#23450;(970623&#20462;&#35330;).doc" TargetMode="External"/><Relationship Id="rId3" Type="http://schemas.openxmlformats.org/officeDocument/2006/relationships/hyperlink" Target="file:///&#35299;&#37323;&#20989;0940006759&#20132;&#36890;&#36027;&#22577;&#25903;.doc" TargetMode="External"/><Relationship Id="rId4" Type="http://schemas.openxmlformats.org/officeDocument/2006/relationships/hyperlink" Target="file:///&#35299;&#37323;&#20989;0940006759&#20132;&#36890;&#36027;&#22577;&#25903;.doc" TargetMode="External"/><Relationship Id="rId5" Type="http://schemas.openxmlformats.org/officeDocument/2006/relationships/hyperlink" Target="file:///&#35299;&#37323;&#20989;0940006759&#20132;&#36890;&#36027;&#22577;&#25903;.doc" TargetMode="External"/><Relationship Id="rId6" Type="http://schemas.openxmlformats.org/officeDocument/2006/relationships/hyperlink" Target="file:///&#24120;&#29992;&#27861;&#35215;/10.&#33457;&#34030;&#32291;&#25919;&#24220;&#20986;&#24046;&#26053;&#36027;&#22577;&#25903;&#35036;&#20805;&#35215;&#23450;(970623&#20462;&#35330;).doc" TargetMode="External"/><Relationship Id="rId7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8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9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15.&#33457;&#34030;&#32291;&#22320;&#26041;&#25945;&#32946;&#22522;&#37329;&#32147;&#36027;&#32080;&#22577;&#34920;&#32113;&#19968;&#20316;&#26989;&#27969;&#31243;(97.11&#29256;).pdf" TargetMode="External"/><Relationship Id="rId2" Type="http://schemas.openxmlformats.org/officeDocument/2006/relationships/hyperlink" Target="file:///&#24120;&#29992;&#27861;&#35215;/15.&#33457;&#34030;&#32291;&#22320;&#26041;&#25945;&#32946;&#22522;&#37329;&#32147;&#36027;&#32080;&#22577;&#34920;&#32113;&#19968;&#20316;&#26989;&#27969;&#31243;(97.11&#29256;).pdf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20844;&#21209;&#20154;&#21729;&#22240;&#20844;&#20663;&#27544;&#27515;&#20129;&#24944;&#21839;&#37329;&#30332;&#32102;&#36774;&#27861;(97.6.27&#20462;&#27491;).doc" TargetMode="External"/><Relationship Id="rId2" Type="http://schemas.openxmlformats.org/officeDocument/2006/relationships/hyperlink" Target="file:///&#26367;&#20195;&#24441;&#23526;&#26045;&#26781;&#20363;(96.1.24&#20462;&#27491;).doc" TargetMode="External"/><Relationship Id="rId3" Type="http://schemas.openxmlformats.org/officeDocument/2006/relationships/hyperlink" Target="file:///&#26367;&#20195;&#24441;&#23526;&#26045;&#26781;&#20363;(96.1.24&#20462;&#27491;).doc" TargetMode="External"/><Relationship Id="rId4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5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6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7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8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9" Type="http://schemas.openxmlformats.org/officeDocument/2006/relationships/hyperlink" Target="file:///&#20027;&#35336;&#38263;&#20449;&#31665;/&#20027;&#35336;&#38263;&#20449;&#31665;-&#20986;&#24109;&#36027;&#21450;&#23529;&#26597;&#36027;.doc" TargetMode="External"/><Relationship Id="rId10" Type="http://schemas.openxmlformats.org/officeDocument/2006/relationships/hyperlink" Target="file:///&#25512;&#21205;&#25919;&#24220;&#27231;&#38364;&#23416;&#26657;&#32025;&#26479;&#28187;&#37327;&#26041;&#26696;.pdf" TargetMode="External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4.&#33457;&#34030;&#32291;&#25919;&#24220;98&#24180;&#24230;&#38928;&#31639;&#22519;&#34892;&#31680;&#32004;&#25514;&#26045;(971212&#35330;&#23450;).doc" TargetMode="External"/><Relationship Id="rId2" Type="http://schemas.openxmlformats.org/officeDocument/2006/relationships/hyperlink" Target="file:///&#24120;&#29992;&#27861;&#35215;/4.&#33457;&#34030;&#32291;&#25919;&#24220;98&#24180;&#24230;&#38928;&#31639;&#22519;&#34892;&#31680;&#32004;&#25514;&#26045;(971212&#35330;&#23450;).doc" TargetMode="External"/><Relationship Id="rId3" Type="http://schemas.openxmlformats.org/officeDocument/2006/relationships/hyperlink" Target="file:///&#24120;&#29992;&#27861;&#35215;/16.&#20839;&#37096;&#23529;&#26680;&#34389;&#29702;&#28310;&#21063;&#31532;24&#26781;.doc" TargetMode="External"/><Relationship Id="rId4" Type="http://schemas.openxmlformats.org/officeDocument/2006/relationships/hyperlink" Target="file:///&#24120;&#29992;&#27861;&#35215;/16.&#20839;&#37096;&#23529;&#26680;&#34389;&#29702;&#28310;&#21063;&#31532;24&#26781;.doc" TargetMode="External"/><Relationship Id="rId5" Type="http://schemas.openxmlformats.org/officeDocument/2006/relationships/hyperlink" Target="file:///&#25903;&#20986;&#24977;&#35657;&#34389;&#29702;&#35201;&#40670;/&#25903;&#20986;&#24977;&#35657;&#34389;&#29702;&#40670;5.doc" TargetMode="External"/><Relationship Id="rId6" Type="http://schemas.openxmlformats.org/officeDocument/2006/relationships/hyperlink" Target="file:///&#25903;&#20986;&#24977;&#35657;&#34389;&#29702;&#35201;&#40670;/&#25903;&#20986;&#24977;&#35657;&#34389;&#29702;&#40670;5.doc" TargetMode="External"/><Relationship Id="rId7" Type="http://schemas.openxmlformats.org/officeDocument/2006/relationships/hyperlink" Target="file:///&#25903;&#20986;&#24977;&#35657;&#34389;&#29702;&#35201;&#40670;/&#25903;&#20986;&#24977;&#35657;&#34389;&#29702;&#40670;6.doc" TargetMode="External"/><Relationship Id="rId8" Type="http://schemas.openxmlformats.org/officeDocument/2006/relationships/hyperlink" Target="file:///&#20027;&#35336;&#38263;&#20449;&#31665;/&#20027;&#35336;&#38263;&#20449;&#31665;605&#25910;&#37504;&#27231;&#32113;&#19968;&#32232;&#34399;.doc" TargetMode="External"/><Relationship Id="rId9" Type="http://schemas.openxmlformats.org/officeDocument/2006/relationships/hyperlink" Target="file:///&#20027;&#35336;&#38263;&#20449;&#31665;/&#20027;&#35336;&#38263;&#20449;&#31665;605&#25910;&#37504;&#27231;&#32113;&#19968;&#32232;&#34399;.doc" TargetMode="External"/><Relationship Id="rId10" Type="http://schemas.openxmlformats.org/officeDocument/2006/relationships/hyperlink" Target="file:///&#25903;&#20986;&#24977;&#35657;&#34389;&#29702;&#35201;&#40670;/&#25903;&#20986;&#24977;&#35657;&#34389;&#29702;&#40670;6.doc" TargetMode="External"/><Relationship Id="rId11" Type="http://schemas.openxmlformats.org/officeDocument/2006/relationships/hyperlink" Target="file:///&#25903;&#20986;&#24977;&#35657;&#34389;&#29702;&#35201;&#40670;/&#25903;&#20986;&#24977;&#35657;&#34389;&#29702;&#40670;6.doc" TargetMode="External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2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3" Type="http://schemas.openxmlformats.org/officeDocument/2006/relationships/hyperlink" Target="file:///&#25903;&#20986;&#24977;&#35657;&#34389;&#29702;&#35201;&#40670;/&#25903;&#20986;&#24977;&#35657;&#34389;&#29702;&#40670;6.doc" TargetMode="External"/><Relationship Id="rId4" Type="http://schemas.openxmlformats.org/officeDocument/2006/relationships/hyperlink" Target="file:///&#25903;&#20986;&#24977;&#35657;&#34389;&#29702;&#35201;&#40670;/&#25903;&#20986;&#24977;&#35657;&#34389;&#29702;&#40670;6.doc" TargetMode="External"/><Relationship Id="rId5" Type="http://schemas.openxmlformats.org/officeDocument/2006/relationships/hyperlink" Target="file:///&#20027;&#35336;&#38263;&#20449;&#31665;/&#20027;&#35336;&#38263;&#20449;&#31665;614-&#35531;&#36092;&#21934;&#21487;&#20813;&#25910;&#37504;&#27231;&#35387;&#35352;&#21697;&#21517;.doc" TargetMode="External"/><Relationship Id="rId6" Type="http://schemas.openxmlformats.org/officeDocument/2006/relationships/hyperlink" Target="file:///&#20027;&#35336;&#38263;&#20449;&#31665;/&#20027;&#35336;&#38263;&#20449;&#31665;614-&#35531;&#36092;&#21934;&#21487;&#20813;&#25910;&#37504;&#27231;&#35387;&#35352;&#21697;&#21517;.doc" TargetMode="External"/><Relationship Id="rId7" Type="http://schemas.openxmlformats.org/officeDocument/2006/relationships/hyperlink" Target="file:///&#24120;&#29992;&#27861;&#35215;/16.&#20839;&#37096;&#23529;&#26680;&#34389;&#29702;&#28310;&#21063;&#31532;24&#26781;.doc" TargetMode="External"/><Relationship Id="rId8" Type="http://schemas.openxmlformats.org/officeDocument/2006/relationships/hyperlink" Target="file:///&#24120;&#29992;&#27861;&#35215;/16.&#20839;&#37096;&#23529;&#26680;&#34389;&#29702;&#28310;&#21063;&#31532;24&#26781;.doc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&#25903;&#20986;&#24977;&#35657;&#34389;&#29702;&#35201;&#40670;/&#25903;&#20986;&#24977;&#35657;&#34389;&#29702;&#40670;9.doc" TargetMode="External"/><Relationship Id="rId2" Type="http://schemas.openxmlformats.org/officeDocument/2006/relationships/hyperlink" Target="file:///&#25903;&#20986;&#24977;&#35657;&#34389;&#29702;&#35201;&#40670;/&#25903;&#20986;&#24977;&#35657;&#34389;&#29702;&#40670;15.doc" TargetMode="External"/><Relationship Id="rId3" Type="http://schemas.openxmlformats.org/officeDocument/2006/relationships/hyperlink" Target="file:///&#25903;&#20986;&#24977;&#35657;&#34389;&#29702;&#35201;&#40670;/&#25903;&#20986;&#24977;&#35657;&#34389;&#29702;&#40670;7.doc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20027;&#35336;&#38263;&#20449;&#31665;/&#20027;&#35336;&#38263;&#20449;&#31665;616-&#31150;&#37329;&#22880;&#20736;&#35613;&#21345;.doc" TargetMode="External"/><Relationship Id="rId2" Type="http://schemas.openxmlformats.org/officeDocument/2006/relationships/hyperlink" Target="file:///&#20027;&#35336;&#38263;&#20449;&#31665;/&#20027;&#35336;&#38263;&#20449;&#31665;616-&#31150;&#37329;&#22880;&#20736;&#35613;&#21345;.doc" TargetMode="External"/><Relationship Id="rId3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hyperlink" Target="file:///&#25903;&#20986;&#24977;&#35657;&#34389;&#29702;&#35201;&#40670;/&#25903;&#20986;&#24977;&#35657;&#34389;&#29702;&#40670;5.doc" TargetMode="External"/><Relationship Id="rId6" Type="http://schemas.openxmlformats.org/officeDocument/2006/relationships/hyperlink" Target="file:///&#25903;&#20986;&#24977;&#35657;&#34389;&#29702;&#35201;&#40670;/&#25903;&#20986;&#24977;&#35657;&#34389;&#29702;&#40670;13.doc" TargetMode="External"/><Relationship Id="rId7" Type="http://schemas.openxmlformats.org/officeDocument/2006/relationships/hyperlink" Target="file:///&#25903;&#20986;&#24977;&#35657;&#34389;&#29702;&#35201;&#40670;/&#25903;&#20986;&#24977;&#35657;&#34389;&#29702;&#40670;4.doc" TargetMode="External"/><Relationship Id="rId8" Type="http://schemas.openxmlformats.org/officeDocument/2006/relationships/hyperlink" Target="file:///&#25903;&#20986;&#24977;&#35657;&#34389;&#29702;&#35201;&#40670;/&#25903;&#20986;&#24977;&#35657;&#34389;&#29702;&#40670;4.doc" TargetMode="External"/><Relationship Id="rId9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10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25903;&#20986;&#24977;&#35657;&#34389;&#29702;&#35201;&#40670;/&#25903;&#20986;&#24977;&#35657;&#34389;&#29702;&#40670;4.doc" TargetMode="External"/><Relationship Id="rId2" Type="http://schemas.openxmlformats.org/officeDocument/2006/relationships/hyperlink" Target="file:///&#25903;&#20986;&#24977;&#35657;&#34389;&#29702;&#35201;&#40670;/&#25903;&#20986;&#24977;&#35657;&#34389;&#29702;&#40670;4.doc" TargetMode="External"/><Relationship Id="rId3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4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24120;&#29992;&#27861;&#35215;/2.&#25945;&#32946;&#37096;&#35036;&#21161;&#21450;&#22996;&#36774;&#32147;&#36027;&#26680;&#25765;&#32080;&#22577;&#20316;&#26989;&#35201;&#40670;(960913&#20462;&#27491;).doc" TargetMode="External"/><Relationship Id="rId2" Type="http://schemas.openxmlformats.org/officeDocument/2006/relationships/hyperlink" Target="file:///&#24120;&#29992;&#27861;&#35215;/3.&#25945;&#32946;&#37096;&#35036;&#21161;&#21450;&#22996;&#36774;&#35336;&#30059;&#32147;&#36027;&#32232;&#21015;&#22522;&#28310;&#34920;.doc" TargetMode="External"/><Relationship Id="rId3" Type="http://schemas.openxmlformats.org/officeDocument/2006/relationships/hyperlink" Target="file:///&#24120;&#29992;&#27861;&#35215;/4.&#33457;&#34030;&#32291;&#25919;&#24220;98&#24180;&#24230;&#38928;&#31639;&#22519;&#34892;&#31680;&#32004;&#25514;&#26045;(971212&#35330;&#23450;).doc" TargetMode="External"/><Relationship Id="rId4" Type="http://schemas.openxmlformats.org/officeDocument/2006/relationships/hyperlink" Target="file:///&#24120;&#29992;&#27861;&#35215;/5.&#33457;&#34030;&#32291;98&#24180;&#24230;&#38928;&#31639;&#20849;&#21516;&#24615;&#36027;&#29992;&#32232;&#21015;&#22522;&#28310;(980106&#20462;&#35330;).doc" TargetMode="External"/><Relationship Id="rId5" Type="http://schemas.openxmlformats.org/officeDocument/2006/relationships/hyperlink" Target="file:///&#24120;&#29992;&#27861;&#35215;/6.&#25903;&#20986;&#27161;&#28310;&#21450;&#23529;&#26680;&#20316;&#26989;&#25163;&#20874;P184&#21407;&#22987;&#24977;&#35657;&#31278;&#39006;.doc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24120;&#29992;&#27861;&#35215;/7.&#25903;&#20986;&#24977;&#35657;&#34389;&#29702;&#35201;&#40670;(931005&#20462;&#35330;).doc" TargetMode="External"/><Relationship Id="rId3" Type="http://schemas.openxmlformats.org/officeDocument/2006/relationships/hyperlink" Target="file:///&#24120;&#29992;&#27861;&#35215;/8.&#33457;&#34030;&#32291;&#25919;&#24220;&#21729;&#24037;&#20844;(&#20986;)&#24046;&#31649;&#21046;&#35201;&#40670;960430.doc" TargetMode="External"/><Relationship Id="rId4" Type="http://schemas.openxmlformats.org/officeDocument/2006/relationships/hyperlink" Target="file:///&#24120;&#29992;&#27861;&#35215;/9.&#22283;&#20839;&#20986;&#24046;&#26053;&#36027;&#22577;&#25903;&#35201;&#40670;0961400035_1.pdf" TargetMode="External"/><Relationship Id="rId5" Type="http://schemas.openxmlformats.org/officeDocument/2006/relationships/hyperlink" Target="file:///&#24120;&#29992;&#27861;&#35215;/10.&#33457;&#34030;&#32291;&#25919;&#24220;&#20986;&#24046;&#26053;&#36027;&#22577;&#25903;&#35036;&#20805;&#35215;&#23450;(970623&#20462;&#35330;).doc" TargetMode="External"/><Relationship Id="rId6" Type="http://schemas.openxmlformats.org/officeDocument/2006/relationships/hyperlink" Target="file:///&#24120;&#29992;&#27861;&#35215;/11.&#21508;&#27231;&#38364;&#27966;&#21729;&#21443;&#21152;&#21508;&#38917;&#35347;&#32244;&#25110;&#35611;&#32722;&#22577;&#25903;&#36027;&#29992;&#35215;&#23450;(900828&#35330;&#23450;).doc" TargetMode="External"/><Relationship Id="rId7" Type="http://schemas.openxmlformats.org/officeDocument/2006/relationships/hyperlink" Target="file:///&#24120;&#29992;&#27861;&#35215;/12.&#21508;&#27231;&#38364;&#23416;&#26657;&#20986;&#24109;&#36027;&#21450;&#31295;&#36027;&#25903;&#32102;&#35201;&#40670;(930930&#20462;&#35330;).doc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24120;&#29992;&#27861;&#35215;/13.&#36557;&#20844;&#25945;&#20154;&#21729;&#20860;&#32887;&#36027;&#21450;&#35611;&#24231;&#37912;&#40670;&#36027;&#25903;&#32102;&#35215;&#23450;(960912&#20462;&#35330;).doc" TargetMode="External"/><Relationship Id="rId3" Type="http://schemas.openxmlformats.org/officeDocument/2006/relationships/hyperlink" Target="file:///&#24120;&#29992;&#27861;&#35215;/14.&#21508;&#39006;&#27506;&#20837;&#27506;&#20986;&#38928;&#31639;&#32147;&#24120;&#36039;&#26412;&#38272;&#21123;&#20998;&#27161;&#28310;.doc" TargetMode="External"/><Relationship Id="rId4" Type="http://schemas.openxmlformats.org/officeDocument/2006/relationships/hyperlink" Target="file:///&#24120;&#29992;&#27861;&#35215;/15.&#33457;&#34030;&#32291;&#22320;&#26041;&#25945;&#32946;&#22522;&#37329;&#32147;&#36027;&#32080;&#22577;&#34920;&#32113;&#19968;&#20316;&#26989;&#27969;&#31243;(97.11&#29256;).pdf" TargetMode="External"/><Relationship Id="rId5" Type="http://schemas.openxmlformats.org/officeDocument/2006/relationships/hyperlink" Target="file:///&#24120;&#29992;&#27861;&#35215;/16.&#20839;&#37096;&#23529;&#26680;&#34389;&#29702;&#28310;&#21063;&#31532;24&#26781;.doc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aw.dgbas.gov.tw/" TargetMode="External"/><Relationship Id="rId3" Type="http://schemas.openxmlformats.org/officeDocument/2006/relationships/hyperlink" Target="http://law.dgbas.gov.tw/" TargetMode="External"/><Relationship Id="rId4" Type="http://schemas.openxmlformats.org/officeDocument/2006/relationships/hyperlink" Target="http://law.dgbas.gov.tw/" TargetMode="External"/><Relationship Id="rId5" Type="http://schemas.openxmlformats.org/officeDocument/2006/relationships/hyperlink" Target="http://www.bas-association.org.tw/mail/content2.htm" TargetMode="External"/><Relationship Id="rId6" Type="http://schemas.openxmlformats.org/officeDocument/2006/relationships/hyperlink" Target="http://as.hl.gov.tw/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35079;&#26412;%20&#22283;&#20013;&#23567;&#21508;&#39006;&#27243;&#24335;&#34920;&#26684;_980225.xls" TargetMode="External"/><Relationship Id="rId3" Type="http://schemas.openxmlformats.org/officeDocument/2006/relationships/hyperlink" Target="http://as.hl.gov.tw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24120;&#29992;&#27861;&#35215;/14.&#21508;&#39006;&#27506;&#20837;&#27506;&#20986;&#38928;&#31639;&#32147;&#24120;&#36039;&#26412;&#38272;&#21123;&#20998;&#27161;&#28310;.doc" TargetMode="External"/><Relationship Id="rId3" Type="http://schemas.openxmlformats.org/officeDocument/2006/relationships/hyperlink" Target="file:///&#24120;&#29992;&#27861;&#35215;/2.&#25945;&#32946;&#37096;&#35036;&#21161;&#21450;&#22996;&#36774;&#32147;&#36027;&#26680;&#25765;&#32080;&#22577;&#20316;&#26989;&#35201;&#40670;(960913&#20462;&#27491;).doc" TargetMode="External"/><Relationship Id="rId4" Type="http://schemas.openxmlformats.org/officeDocument/2006/relationships/hyperlink" Target="file:///&#24120;&#29992;&#27861;&#35215;/17.&#32291;(&#24066;)&#21934;&#20301;&#38928;&#31639;&#22519;&#34892;&#35201;&#40670;(971219&#20462;&#35330;).doc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560" y="1371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Arial"/>
              </a:rPr>
              <a:t>經費報支注意事項 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716360" y="3284640"/>
            <a:ext cx="388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報告人：花蓮縣政府主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　　　　計處帳務科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8000"/>
                </a:solidFill>
                <a:latin typeface="Arial"/>
              </a:rPr>
              <a:t>　　　　趙麗慶</a:t>
            </a: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-2076" t="-4378" r="72137" b="-553"/>
          <a:stretch/>
        </p:blipFill>
        <p:spPr>
          <a:xfrm>
            <a:off x="1042920" y="4221000"/>
            <a:ext cx="180828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8E1C-D56E-4A65-B110-E4F8B6A347F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50920" y="549360"/>
          <a:ext cx="8569080" cy="5229000"/>
        </p:xfrm>
        <a:graphic>
          <a:graphicData uri="http://schemas.openxmlformats.org/drawingml/2006/table">
            <a:tbl>
              <a:tblPr/>
              <a:tblGrid>
                <a:gridCol w="461880"/>
                <a:gridCol w="774720"/>
                <a:gridCol w="2282760"/>
                <a:gridCol w="1189080"/>
                <a:gridCol w="1082520"/>
                <a:gridCol w="1465560"/>
                <a:gridCol w="1312560"/>
              </a:tblGrid>
              <a:tr h="1146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區分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授課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講座鐘點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講座</a:t>
                      </a: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助理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鐘點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交通費、住宿費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依據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外聘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國外聘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,4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,2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視實際需要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核實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支給，高鐵、飛機、住宿費需檢據報支，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計程車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除專案報准不得支給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法規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國內聘請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專家學者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,6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8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教育部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補助及委辦計畫其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人員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8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4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法規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P2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內聘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縣屬機關學校及縣轄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鄉鎮公所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8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  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400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法規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P3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備註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.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授課時間每節</a:t>
                      </a:r>
                      <a:r>
                        <a:rPr b="0" lang="zh-TW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50</a:t>
                      </a:r>
                      <a:r>
                        <a:rPr b="0" lang="zh-TW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分鐘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，其連續上課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節者為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90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分鐘，</a:t>
                      </a:r>
                      <a:r>
                        <a:rPr b="0" lang="zh-TW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未滿者減半</a:t>
                      </a:r>
                      <a:r>
                        <a:rPr b="0" lang="zh-TW" sz="19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支給。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備註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.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課程表所列非實際授課之</a:t>
                      </a: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綜合座談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及</a:t>
                      </a:r>
                      <a:r>
                        <a:rPr b="0" lang="zh-TW" sz="20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開訓典禮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，</a:t>
                      </a: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不得支給鐘點費</a:t>
                      </a:r>
                      <a:r>
                        <a:rPr b="0" lang="zh-TW" sz="20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。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826920" y="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666699"/>
                </a:solidFill>
                <a:uFillTx/>
                <a:latin typeface="Times New Roman"/>
                <a:ea typeface="標楷體"/>
                <a:hlinkClick r:id="rId1"/>
              </a:rPr>
              <a:t>經費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報支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Times New Roman"/>
                <a:ea typeface="標楷體"/>
                <a:hlinkClick r:id="rId2"/>
              </a:rPr>
              <a:t>基準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-</a:t>
            </a:r>
            <a:r>
              <a:rPr b="0" lang="zh-TW" sz="2400" spc="-1" strike="noStrike">
                <a:solidFill>
                  <a:srgbClr val="ff9900"/>
                </a:solidFill>
                <a:latin typeface="Times New Roman"/>
                <a:ea typeface="標楷體"/>
              </a:rPr>
              <a:t>講座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Times New Roman"/>
                <a:ea typeface="標楷體"/>
                <a:hlinkClick r:id="rId3"/>
              </a:rPr>
              <a:t>鐘點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4AE-BF90-4ED8-8FEB-1B6B111760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經費報支基準</a:t>
            </a:r>
            <a:r>
              <a:rPr b="0" lang="zh-TW" sz="2400" spc="-1" strike="noStrike">
                <a:solidFill>
                  <a:srgbClr val="003366"/>
                </a:solidFill>
                <a:latin typeface="Times New Roman"/>
                <a:ea typeface="標楷體"/>
              </a:rPr>
              <a:t>-</a:t>
            </a:r>
            <a:r>
              <a:rPr b="0" lang="zh-TW" sz="2400" spc="-1" strike="noStrike">
                <a:solidFill>
                  <a:srgbClr val="ff9900"/>
                </a:solidFill>
                <a:latin typeface="Times New Roman"/>
                <a:ea typeface="標楷體"/>
              </a:rPr>
              <a:t>教學鐘點費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0" y="476280"/>
          <a:ext cx="8820000" cy="6162480"/>
        </p:xfrm>
        <a:graphic>
          <a:graphicData uri="http://schemas.openxmlformats.org/drawingml/2006/table">
            <a:tbl>
              <a:tblPr/>
              <a:tblGrid>
                <a:gridCol w="934920"/>
                <a:gridCol w="863640"/>
                <a:gridCol w="612720"/>
                <a:gridCol w="576360"/>
                <a:gridCol w="830160"/>
                <a:gridCol w="576360"/>
                <a:gridCol w="1081080"/>
                <a:gridCol w="787320"/>
                <a:gridCol w="2557440"/>
              </a:tblGrid>
              <a:tr h="3373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項目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國中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鐘點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國小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鐘點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行政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下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週六日、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寒暑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前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下班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: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以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後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週六日、</a:t>
                      </a:r>
                      <a:br>
                        <a:rPr sz="1400"/>
                      </a:b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寒暑假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兼代課鐘點費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一般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應授足本身每週最高基本節數，始得按實際超出節數發給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支援工作人員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鄉土語言、英語、藝術與人文等具業證照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攜手計畫課後扶助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每節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40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退休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得依意願選擇支領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同上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或不支領鐘點費；不支領鐘點費每人每月補助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60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材編輯費及每人每期補助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,00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活動費辦理表揚、聯誼或文康活動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育優先區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學習輔導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32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每節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0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退休教師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不支領鐘點費；支領教材編輯費暑假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,50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、寒假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750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國小課後照顧服務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學校自辦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40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分鐘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5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／</a:t>
                      </a:r>
                      <a:r>
                        <a:rPr b="0" lang="zh-TW" sz="1400" spc="-1" strike="noStrike">
                          <a:solidFill>
                            <a:srgbClr val="008000"/>
                          </a:solidFill>
                          <a:latin typeface="標楷體"/>
                          <a:ea typeface="標楷體"/>
                        </a:rPr>
                        <a:t>教育部補助比例未達</a:t>
                      </a:r>
                      <a:r>
                        <a:rPr b="0" lang="zh-TW" sz="1400" spc="-1" strike="noStrike">
                          <a:solidFill>
                            <a:srgbClr val="008000"/>
                          </a:solidFill>
                          <a:latin typeface="標楷體"/>
                          <a:ea typeface="標楷體"/>
                        </a:rPr>
                        <a:t>70%</a:t>
                      </a:r>
                      <a:r>
                        <a:rPr b="0" lang="zh-TW" sz="1400" spc="-1" strike="noStrike">
                          <a:solidFill>
                            <a:srgbClr val="008000"/>
                          </a:solidFill>
                          <a:latin typeface="標楷體"/>
                          <a:ea typeface="標楷體"/>
                        </a:rPr>
                        <a:t>，調整為</a:t>
                      </a: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00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元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/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節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限總收費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委託機構代辦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60</a:t>
                      </a:r>
                      <a:r>
                        <a:rPr b="0" lang="zh-TW" sz="1400" spc="-1" strike="noStrike">
                          <a:solidFill>
                            <a:srgbClr val="cc3399"/>
                          </a:solidFill>
                          <a:latin typeface="標楷體"/>
                          <a:ea typeface="標楷體"/>
                        </a:rPr>
                        <a:t>分鐘</a:t>
                      </a:r>
                      <a:r>
                        <a:rPr b="0" lang="zh-TW" sz="14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上限總收費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30%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學校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10%</a:t>
                      </a:r>
                      <a:br>
                        <a:rPr sz="1600"/>
                      </a:b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代辦機構</a:t>
                      </a:r>
                      <a:r>
                        <a:rPr b="0" lang="zh-TW" sz="1600" spc="-1" strike="noStrike">
                          <a:solidFill>
                            <a:srgbClr val="003366"/>
                          </a:solidFill>
                          <a:latin typeface="標楷體"/>
                          <a:ea typeface="標楷體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85C7-90F9-4723-9AC9-E011EB6FDB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申報人對於憑證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真實性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負責，會計人員對於憑證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合法性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審核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3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黏貼憑證用紙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張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以上請加編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憑證簿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統一發票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：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二聯式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收執聯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 “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機關名稱” 、三聯式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扣抵聯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及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收執聯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“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機關名稱．機關統一編號”、二聯式收銀機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收執聯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“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機關統一編號”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商店收據：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店章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店名、地址、營利事業統一編號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(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如有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統一發票專用章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」字樣只能開發票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個人收據：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受領人簽章、戶籍地址、身份證字號，並依印花稅法黏貼印花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60F-EE29-4B60-8D00-1A1D46AB43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印領清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9900"/>
                </a:solidFill>
                <a:latin typeface="Arial"/>
              </a:rPr>
              <a:t>應由領款人或代領人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親自簽名或蓋章</a:t>
            </a:r>
            <a:r>
              <a:rPr b="0" lang="zh-TW" sz="2000" spc="-1" strike="noStrike">
                <a:solidFill>
                  <a:srgbClr val="669900"/>
                </a:solidFill>
                <a:latin typeface="Arial"/>
              </a:rPr>
              <a:t>。領款人或代領人有數人時，均應分別簽名或蓋章。以劃撥入帳方式撥付者，得以</a:t>
            </a:r>
            <a:r>
              <a:rPr b="0" lang="zh-TW" sz="2000" spc="-1" strike="noStrike">
                <a:solidFill>
                  <a:srgbClr val="ff0000"/>
                </a:solidFill>
                <a:latin typeface="Arial"/>
              </a:rPr>
              <a:t>劃撥轉帳金融機構之簽收或證明文件</a:t>
            </a:r>
            <a:r>
              <a:rPr b="0" lang="zh-TW" sz="2000" spc="-1" strike="noStrike">
                <a:solidFill>
                  <a:srgbClr val="669900"/>
                </a:solidFill>
                <a:latin typeface="Arial"/>
              </a:rPr>
              <a:t>為之。 </a:t>
            </a:r>
            <a:endParaRPr b="0" lang="en-US" sz="20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每次扣繳金額超過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2,000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元以上者，應代扣所得稅。競技競賽機會中獎獎金應扣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15%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，執行業務所得（稿費、演講鐘點費等）應扣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10%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，非固定薪資所得（如出席費、審查費、講授鐘點費）應扣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6%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cc"/>
                </a:solidFill>
                <a:latin typeface="Arial"/>
              </a:rPr>
              <a:t>鐘點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除印領清冊尚需檢附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課程表（日期、時間、講師、課程名稱）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cc"/>
                </a:solidFill>
                <a:latin typeface="Arial"/>
              </a:rPr>
              <a:t>出席費、評審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除印領清冊尚需檢附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開會通知單、出席簽到單等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C95E-5832-4281-B745-7042C73ADE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國內出差旅費報告表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具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訓練、講習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性質之會議僅支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膳費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，不得支領雜費（膳雜費其膳費及雜費各半） ，當天供應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餐以上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膳費不得支領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搭乘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高鐵及飛機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需檢附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票根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，且需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當天往返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辦理單位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已提供用餐、接泊車及住宿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，除因公務無法使用，否則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無論是否使用皆不得報支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(0940006759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號函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住宿費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一律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檢據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支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縣外出差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請檢附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奉核公文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受訓課程表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78D8-C560-4968-85F0-84AC88A7D4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原始憑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4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3464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證明單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收據應由其受領人或其代領人親自簽名之。其因特殊情形，不能取得者，經手人應開具支出證明單（附格式一），書明不能取得原因，據以請款。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處理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受款人：支付廠商或貸款代墊人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經手人：經辦人員或承辦人或申請人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如有遺失或供其他用途者，應檢附原立據人簽名負責證明與原本相符之影本，或其他可資證明之文件，並註明無法提出原本之原因。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處理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7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EC2-0BE1-4513-974A-5B96AAF8F2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結報表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請參照「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編製花蓮縣地方教育發展基金</a:t>
            </a:r>
            <a:r>
              <a:rPr b="0" lang="zh-TW" sz="2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經費結報表統一作業流程</a:t>
            </a:r>
            <a:r>
              <a:rPr b="0" lang="zh-TW" sz="2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 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」填報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活動或事項辦理結束後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20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日內編製結報表，由學校業務承辦人填寫，會計人員協助查填傳票號碼及複核。 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經費項目原則依核定經費概算表依序填寫，執行時如有細項，請於原核定項目下增列細項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依核定經費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概算表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填寫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核定數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，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實支數依實際執行情形填寫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傳票號碼 須填寫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年度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、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種類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、</a:t>
            </a:r>
            <a:r>
              <a:rPr b="0" lang="zh-TW" sz="2600" spc="-1" strike="noStrike">
                <a:solidFill>
                  <a:srgbClr val="0099cc"/>
                </a:solidFill>
                <a:latin typeface="Arial"/>
              </a:rPr>
              <a:t>號碼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，例如（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97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年支</a:t>
            </a:r>
            <a:r>
              <a:rPr b="0" lang="zh-TW" sz="2600" spc="-1" strike="noStrike">
                <a:solidFill>
                  <a:srgbClr val="ff0000"/>
                </a:solidFill>
                <a:latin typeface="Arial"/>
              </a:rPr>
              <a:t>176</a:t>
            </a:r>
            <a:r>
              <a:rPr b="0" lang="zh-TW" sz="26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893D-D978-4A79-A165-E66DACE828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機關學校為其公教人員投保額外保險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公務人員因公傷殘死亡慰問金發給辦法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替代役男投保團體意外險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替代役實施條例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41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本職機關、委辦機關人員支領出席費、審查費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90.3.2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主計長信箱及處忠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6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字第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0940007761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號函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辦理內部會議、訓練講習低於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40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人的室內公廳、說明會等購買紙杯、杯水或包裝飲用水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環保署推動「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政府機關、學校紙杯減量方案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」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A18-1F73-4961-AB0A-5B4ADE2333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844640"/>
            <a:ext cx="800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茶水費、雜支購置點心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花蓮縣政府預算執行節約措施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採購時未填請購單、僅附估價單、送貨單等或請購單未完整填寫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內部審核處理準則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24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發票或收據缺買受人或日期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收銀機發票未輸入學校統一編號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60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收銀機發票僅有貨品代號，由經手人加註品名時，未簽章證明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495-54BD-4BAF-896C-5422A1F0C8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三聯式發票，未同時檢附第二、三聯（扣抵聯及收據聯）報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187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廠商收據店章刻有「統一發票專用章」卻未使用統一發票。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購買品項眾多時，以一式（批）書寫者，未檢附貨品明細清單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61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購置財物時未做財產（物品）登記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內部審核處理準則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2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D05D-2FC3-4961-B93A-DE76D2DE97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報告大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經費報支常用法規、網站、表格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經資門劃分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兼職費、講座鐘點費及教學鐘點費</a:t>
            </a:r>
            <a:r>
              <a:rPr b="0" lang="zh-TW" sz="36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原始憑證種類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教育基金經費結報表統一作業流程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00"/>
                </a:solidFill>
                <a:latin typeface="Arial"/>
              </a:rPr>
              <a:t>經費報支常見缺失</a:t>
            </a: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AFB-EDAC-4CE3-A0AD-D9C830CB3A43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4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7905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憑證黏貼用紙未完整核章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9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1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以影印本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7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講師鐘點費核銷時未檢附課程表、交通費未併入領款數額逕以票根核銷。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18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出差旅費報銷時未黏貼請示單、搭乘飛機未經批核、報支人未簽章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標準及審核作業手冊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8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B94E-5501-4CCA-914B-9E72C339A5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5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0503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特別費報支禮金時未檢附謝卡或支出證明單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616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支文康活動費未檢附相關計畫書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18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郵局出具之「購買票品證明單」未填註買受人（學校）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5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13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運費未以發票或收據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支加班費未檢附請示單及簽到簿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18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9BBC-AEF8-44DF-9DA1-9B21AC99B0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費報支常見缺失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6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0503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班級費未以發票或收據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支出憑證處理要點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學分補助費未檢附收據及成績單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支出標準及審核作業手冊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184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以上年度發票或收據核銷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主計長信箱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629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以印領清冊為支出憑證，未檢附存帳證明文件或由領款人簽章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（支出憑證處理要點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1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）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397-8781-4FD7-8A30-0CC38BFABD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法規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1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7761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中央訂定基準寛於本府訂定一致性基準或內規，從嚴依本府規定辦理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市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單位預算執行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7.12.19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訂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育部補助及委辦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經費核撥結報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作業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9.13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育部補助及委辦計畫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經費編列基準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表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政府預算執行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節約措施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7.12.12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共同性費用編列基準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8.4.14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支出標準及審核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作業手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年版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p184~6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AC78-95C6-4C92-87FF-2D07348197C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9920" y="83664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法規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2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7. 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支出憑證處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3.10.5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8. 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政府員工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公（出）差管制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4.30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9.  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國內出差旅費報支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1.19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0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政府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國內出差旅費報支補充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規定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7.6.23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1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機關派員參加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各項訓練或講習報支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費用規定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0.8.28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2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機關學校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出席費及稿費支給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要點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3.9.30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E3E-AC46-42D1-9CE0-110D5296E5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9920" y="83664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法規</a:t>
            </a: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3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3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軍公教人員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兼職費及講座鐘點費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給規定 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96.9.12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4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類歲入、歲出預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經常、資本門劃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標準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5.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花蓮縣地方教育基金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經費結報表統一作業流程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(97.11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版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16.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內部審核處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準則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第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24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條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A43-587E-4DA9-8DF2-81CD45A0D7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網站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主計處法規查詢網站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aw.dgbas.gov.tw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/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主計長信箱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bas-association.org.tw/mail/content2.htm</a:t>
            </a: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9900"/>
                </a:solidFill>
                <a:latin typeface="Arial"/>
              </a:rPr>
              <a:t>花蓮縣政府主計處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as.hl.gov.tw/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6DD6-EE04-4E61-A505-40016E26F5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常用表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國中小</a:t>
            </a:r>
            <a:r>
              <a:rPr b="0" lang="zh-TW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各類橫式表格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本府主計處網站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/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表格下載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/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帳務科</a:t>
            </a:r>
            <a:r>
              <a:rPr b="0" lang="zh-TW" sz="32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支出憑證簿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新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臨時人員薪資印領清冊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講習鐘點費印領清冊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學鐘點費印領清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新增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訓練講師交通住宿費印領清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修正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經費結報表</a:t>
            </a:r>
            <a:endParaRPr b="0" lang="en-US" sz="32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7DE-C68E-4414-B52F-0D208E85EB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經資門劃分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各類歲入、歲出預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經常、資本門劃分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標準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購置耐用年限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年以上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且金額額超過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萬元之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儀器、設備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之支出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典藏用之圖書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報章雜誌等購置支出與其他機關購置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圖書設備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之支出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2" marL="14479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歲出經常門：凡不屬於資本支出之各類歲出均屬之。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資本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經費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不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流用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至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經常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教育部補助款其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經常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 經費，除經本部同意者外，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不得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流用</a:t>
            </a: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至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</a:rPr>
              <a:t>資本門</a:t>
            </a:r>
            <a:r>
              <a:rPr b="0" lang="zh-TW" sz="28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D29C-791B-4A4F-A1FD-D317ECD53F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6666"/>
                </a:solidFill>
                <a:latin typeface="Arial"/>
              </a:rPr>
              <a:t>兼職費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兼職費支給以依組織法規或有關法令規定經權責主管機關核准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任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其他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機關（構）學校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職務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（含由主管院、省（市）政府或縣（市）政府依權責核定之其他機關學校任務編組職務）之人員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為限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各機關所屬單位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未具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(1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獨立編制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； 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2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獨立預算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； 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(3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依法設置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； 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(4)</a:t>
            </a:r>
            <a:r>
              <a:rPr b="0" lang="zh-TW" sz="2400" spc="-1" strike="noStrike">
                <a:solidFill>
                  <a:srgbClr val="0000cc"/>
                </a:solidFill>
                <a:latin typeface="Arial"/>
              </a:rPr>
              <a:t>對外行文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等四項要件者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不得支給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為執行本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機關（構）學校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業務或執行共同業務而設在上級或他機關（構）學校之任務編組職務者，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不得支給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任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-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兼任其他職務、</a:t>
            </a: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兼辦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-</a:t>
            </a:r>
            <a:r>
              <a:rPr b="0" lang="zh-TW" sz="2400" spc="-1" strike="noStrike">
                <a:solidFill>
                  <a:srgbClr val="669900"/>
                </a:solidFill>
                <a:latin typeface="Arial"/>
              </a:rPr>
              <a:t>兼辦其他業務</a:t>
            </a:r>
            <a:endParaRPr b="0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648E-9EB9-41EA-AC2D-C4EE1F7D16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8:17:56Z</dcterms:created>
  <dc:creator>Alex Lee</dc:creator>
  <dc:description/>
  <dc:language>en-US</dc:language>
  <cp:lastModifiedBy>liching</cp:lastModifiedBy>
  <dcterms:modified xsi:type="dcterms:W3CDTF">2009-04-19T08:31:41Z</dcterms:modified>
  <cp:revision>147</cp:revision>
  <dc:subject/>
  <dc:title>歡迎！來自四面八方的伙伴！</dc:title>
</cp:coreProperties>
</file>