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8B6-DE5B-4D0A-8449-DD1AF804DFB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-715,000-90,000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千元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/5,959,601=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4,562,379+60,000)/(5,959,601+60,000)=7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C69C-A8F4-45F5-AD2C-AF8EA3CC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A7A-E527-4864-AE5C-FB71F8C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6592-8844-40FA-BDDA-82F4100E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065-7DD8-4652-A554-CD461916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91F-9F81-4E8F-8D11-DFEF225E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D8BE-4255-49D3-9F98-54DCB1F2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ECFC-4E12-4999-B2EA-4E0CF548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DBA-5F5A-4A64-A62D-9A29125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7B1-11C3-46CC-9762-F6EECB5B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3CA3-8DC3-4962-BA38-7137D8C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61AD-053F-4D12-9019-3D6F94F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CC82-BB1E-4DB1-97A1-B4314576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C2C8-AEBD-43C6-A3F5-8E6F8EBC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97EB-E335-46F5-96C8-8D57C0D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B7C5-7CCB-410E-BD79-94B9592D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9408-8147-4732-9D96-91E4AA87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184428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064760"/>
            <a:ext cx="257616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9C16-D137-49D8-AB24-51A35EA1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8BC-35DF-4179-B36E-6592F05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089-BACF-479F-BCAD-97FEE28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E5A-624F-47D7-B629-AEA66740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771372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EBB-95C8-42F1-96CA-C0DAD6DF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90F-4348-4B5B-B6BE-E255D16C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06476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836A-8C09-4700-93FF-B5B7C1A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6920" y="662760"/>
            <a:ext cx="771372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1844280"/>
            <a:ext cx="39042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8001000" cy="20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FD9-2668-4E1B-B4FF-2553E09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4479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9051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362320" indent="-53352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563D-25C0-4102-9B0D-7F6067857962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50560" y="1413000"/>
            <a:ext cx="7391160" cy="318960"/>
            <a:chOff x="250560" y="1413000"/>
            <a:chExt cx="7391160" cy="318960"/>
          </a:xfrm>
        </p:grpSpPr>
        <p:sp>
          <p:nvSpPr>
            <p:cNvPr id="10" name=""/>
            <p:cNvSpPr/>
            <p:nvPr/>
          </p:nvSpPr>
          <p:spPr>
            <a:xfrm>
              <a:off x="631440" y="141300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50200" y="141300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rcRect l="-2076" t="-4378" r="72137" b="-553"/>
          <a:stretch/>
        </p:blipFill>
        <p:spPr>
          <a:xfrm>
            <a:off x="250920" y="189000"/>
            <a:ext cx="93348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35280" y="5516640"/>
            <a:ext cx="4876920" cy="318960"/>
            <a:chOff x="3635280" y="551664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5280" y="551664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1920" y="551664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EC5D-F9AE-4529-B3DD-4F465219CD94}" type="slidenum">
              <a:rPr b="1" lang="zh-TW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27-9&#27506;&#20986;&#35498;&#26126;&#25552;&#35201;.pd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1371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3366"/>
                </a:solidFill>
                <a:latin typeface="Arial"/>
              </a:rPr>
              <a:t>教育人事費設算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716360" y="328464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簡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報</a:t>
            </a:r>
            <a:r>
              <a:rPr b="0" lang="zh-TW" sz="1400" spc="-1" strike="noStrike">
                <a:solidFill>
                  <a:srgbClr val="006666"/>
                </a:solidFill>
                <a:latin typeface="Arial"/>
              </a:rPr>
              <a:t>　</a:t>
            </a: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人：趙麗慶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-2076" t="-4378" r="72137" b="-553"/>
          <a:stretch/>
        </p:blipFill>
        <p:spPr>
          <a:xfrm>
            <a:off x="1042920" y="4221000"/>
            <a:ext cx="180828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19F1-8ABA-4C55-AA7E-79F98C3F9D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建議與指教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3366"/>
                </a:solidFill>
                <a:latin typeface="Arial"/>
              </a:rPr>
              <a:t>敬請指教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16000" y="481644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627280" y="483408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0360" y="485136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651640" y="4869000"/>
            <a:ext cx="1019160" cy="771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164360" y="4797360"/>
            <a:ext cx="1019160" cy="7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FDF-D6B8-4318-B6DC-C1E7F651A2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報告大鋼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前言</a:t>
            </a:r>
            <a:r>
              <a:rPr b="0" lang="zh-TW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明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學校員額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概算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調查表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人事費預算彈性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8F4-3468-45DB-9B30-2B0F0754F3F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前言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係概估下一年度所需經費，而教育經費最大支出為人事費，約佔教育經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不包含退休撫卹及各項補助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成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） ，因此在財源有限下如何合理編列所需人事費概算，顯然非常重要。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481-A7E7-4FA1-B2C0-AE59F6454617}" type="slidenum">
              <a:t>3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明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教職員全年度</a:t>
            </a:r>
            <a:r>
              <a:rPr b="0" lang="zh-TW" sz="2800" spc="-1" strike="noStrike" u="sng">
                <a:solidFill>
                  <a:srgbClr val="666699"/>
                </a:solidFill>
                <a:uFillTx/>
                <a:latin typeface="標楷體"/>
                <a:hlinkClick r:id="rId2"/>
              </a:rPr>
              <a:t>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代課鐘點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每班每年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0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節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*(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中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36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、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國小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26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工友全年度薪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行政職工友國內休假補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值日夜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退撫費、勞退準備金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政府負擔保險費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-</a:t>
            </a:r>
            <a:r>
              <a:rPr b="1" lang="zh-TW" sz="2800" spc="-1" strike="noStrike">
                <a:solidFill>
                  <a:srgbClr val="003366"/>
                </a:solidFill>
                <a:latin typeface="標楷體"/>
              </a:rPr>
              <a:t>公保、健保、勞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84E-0228-4771-9BA7-C8DB555E93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一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預算員額≠編制員額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（部分學校因為班級數減少，造成職員及工友超編）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高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官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298-60E3-4814-B0A6-6FC889FC96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校員額（二）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-97</a:t>
            </a: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學年度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中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滿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3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算員額國小部分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普通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.5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未達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班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生以上再增置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特教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體育班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職員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實際工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A034-811C-47C8-A364-D431457D09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概算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× 14.5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40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當年度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預估成長薪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保險費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設算平均薪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決定保險級距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全年離職儲金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依照設算</a:t>
            </a:r>
            <a:r>
              <a:rPr b="0" lang="zh-TW" sz="3200" spc="-1" strike="noStrike">
                <a:solidFill>
                  <a:srgbClr val="ff0000"/>
                </a:solidFill>
                <a:latin typeface="Arial"/>
              </a:rPr>
              <a:t>平均本俸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提撥比率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12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月</a:t>
            </a: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×</a:t>
            </a:r>
            <a:r>
              <a:rPr b="0" lang="zh-TW" sz="3200" spc="-1" strike="noStrike">
                <a:solidFill>
                  <a:srgbClr val="003366"/>
                </a:solidFill>
                <a:latin typeface="標楷體"/>
              </a:rPr>
              <a:t>預算員額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F60-BE29-4CD8-9184-943E16DB9C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330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調查表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教育人事費調查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中央及本府設算下年度教育經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66"/>
                </a:solidFill>
                <a:latin typeface="Arial"/>
              </a:rPr>
              <a:t>人事費支用明細表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提供檢視是否須辦理人事費追加減預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9C8-3034-4B54-A6CA-717FF1653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55280" y="765000"/>
            <a:ext cx="8001000" cy="5616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920" y="765000"/>
            <a:ext cx="7713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6666"/>
                </a:solidFill>
                <a:latin typeface="Arial"/>
              </a:rPr>
              <a:t>人事費預算彈性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由於學校員額眾多且學年度與曆年度不一致，以至人事費無法設算剛好，因此需透過預算彈性來因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科目流用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各計畫科目內之人事費，不得自其他用途別科目流入，如有賸餘亦不得流出。在同一計畫之</a:t>
            </a:r>
            <a:r>
              <a:rPr b="0" lang="zh-TW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分支計畫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其人事費可互相流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追加（減）預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將部分編列過多人事費學校追減後追加人事費不足學校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"/>
              </a:rPr>
              <a:t>調整待遇準備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－由地方教育發展基金預算編列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2,500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萬元統籌人事費來因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519-164B-4BD0-BE93-A118CD7788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3T08:17:56Z</dcterms:created>
  <dc:creator>Alex Lee</dc:creator>
  <dc:description/>
  <dc:language>en-US</dc:language>
  <cp:lastModifiedBy>liching</cp:lastModifiedBy>
  <dcterms:modified xsi:type="dcterms:W3CDTF">2009-04-19T06:09:39Z</dcterms:modified>
  <cp:revision>54</cp:revision>
  <dc:subject/>
  <dc:title>歡迎！來自四面八方的伙伴！</dc:title>
</cp:coreProperties>
</file>