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37FB-15CC-4809-8062-AD5FBD2816F0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-715,000-90,000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千元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)/5,959,601=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+60,000)/(5,959,601+60,000)=7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C04-A11F-4AB3-9530-35F73394C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4C3-094D-43EF-BA26-3E586613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5A3-52F2-48BA-9869-AC6E682D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D6E-3AA0-4143-B093-C22E9D78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007C-C2C2-431B-ADC3-EE4BA33D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A5CF-1BBF-4C6F-80C1-BAE7ED55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9DC6-1B84-46A8-BFED-42E41E22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433C-A808-484C-9DF4-DFC11E0A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06D1-3BAE-400B-9A6D-A1D9D259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A8AD-8614-4F13-B492-C62AB846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FF14-D5FC-4ED5-BE04-D9CD7497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CF2-784D-46B3-A06B-DCA4F18A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C231-9EBB-40FF-A3B3-FA9AED7C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21B7-6D12-4119-9B75-3DDFBD10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C0DB-1A83-4A0B-A964-65A7DD0D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1E01-8955-45F2-A0EF-BDD7467D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B5F3-FBD7-4A49-9AF3-091FFEE6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0002-9EE4-4A99-9DAE-94403116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D68-177E-4122-880C-9BA3473A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FFE-5245-4CE7-89AD-529E30D9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5F72-80F5-49B0-91DA-45256D56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661-5A54-4ACE-BFB7-4033D898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45E-E153-411F-B1BF-6F835918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461C-E04B-4F74-80B5-701BC71C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935F-A964-47D3-A087-1E54A3527738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ECE0-E45B-4144-AF97-875C501194B0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66"/>
                </a:solidFill>
                <a:latin typeface="Arial"/>
              </a:rPr>
              <a:t>教育人事費設算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簡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報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人：趙麗慶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351A-0AC0-4FBE-906C-AFA450F9AD7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建議與指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3366"/>
                </a:solidFill>
                <a:latin typeface="Arial"/>
              </a:rPr>
              <a:t>敬請指教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481644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27280" y="483408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140360" y="485136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651640" y="486900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164360" y="4797360"/>
            <a:ext cx="101916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966-5E12-4C4B-A2CF-30BA7E5573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前言</a:t>
            </a:r>
            <a:r>
              <a:rPr b="0" lang="zh-TW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明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學校員額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概算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調查表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預算彈性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F74-5E41-4EDA-8FB2-E8189414980C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前言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係概估下一年度所需經費，而教育經費最大支出為人事費，約佔教育經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不包含退休撫卹及各項補助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） ，因此在財源有限下如何合理編列所需人事費概算，顯然非常重要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34D-8CFC-4916-8916-2ECEA357170A}" type="slidenum">
              <a:t>3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明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教職員全年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標楷體"/>
                <a:hlinkClick r:id="rId2"/>
              </a:rPr>
              <a:t>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代課鐘點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每班每年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0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節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*(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中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6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小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26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工友全年度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行政職工友國內休假補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值日夜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退撫費、勞退準備金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保險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公保、健保、勞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D9E-FA05-45B4-AC8D-FCDD2656DD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一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預算員額≠編制員額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部分學校因為班級數減少，造成職員及工友超編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高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官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C47-7A1C-45AD-9BC8-19E14766DA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二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滿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小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未達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5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生以上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370-4B58-4BA6-9309-93FBD47B7B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概算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 14.5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當年度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估成長薪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設算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決定保險級距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設算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本俸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提撥比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C1CB-C6F5-4937-8F14-83103BDAD6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調查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育人事費調查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中央及本府設算下年度教育經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事費支用明細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檢視是否須辦理人事費追加減預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D1DC-3FB2-44CF-A7EF-8553B7912F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616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預算彈性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由於學校員額眾多且學年度與曆年度不一致，以至人事費無法設算剛好，因此需透過預算彈性來因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科目流用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各計畫科目內之人事費，不得自其他用途別科目流入，如有賸餘亦不得流出。在同一計畫之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分支計畫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人事費可互相流用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追加（減）預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將部分編列過多人事費學校追減後追加人事費不足學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調整待遇準備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由地方教育發展基金預算編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2,500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萬元統籌人事費來因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B08-A68C-47CA-B57B-33430BC81B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6:09:39Z</dcterms:modified>
  <cp:revision>54</cp:revision>
  <dc:subject/>
  <dc:title>歡迎！來自四面八方的伙伴！</dc:title>
</cp:coreProperties>
</file>